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6EE-9129-4F1A-9FDF-4D18EB0C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90852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1CD3-51A5-497A-B7DE-BD8B4614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9B7-957B-4145-91AF-722CFE96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6584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272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1C9E-64B4-4FFB-934D-B2D3C567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7F4D-5432-4AB7-BBAA-19CD4CB8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5EFE-4210-49E4-A54F-93DBF3C6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12F0-A61B-4BBC-A897-3CE6F3DC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5E12-E250-471B-B614-06386009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EEA6-53EC-4292-B0B7-1009994F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3049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155F-BECA-4B33-B437-DA7CB503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A537-8C57-48CC-B64A-CE865145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939F-E263-4FA5-9FC7-B45064B2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6E5C-A7D2-4E27-A3B3-98A3A978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5624-10F0-450B-8685-0DD64CE4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0852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9AA4-749D-449F-AFE5-54B2AC50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B13B-4215-4F15-8A63-0334FA47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0852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5E21-0A19-4127-8988-308796ED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4908-6E67-4CAD-8F93-AE53A621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5A0-E9F6-4E8D-9339-99B6B6FA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8933-7CB8-48D9-A6C3-BC809588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3049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9EE-A09A-43D3-BE8B-C50DEDC5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DBFC-A86E-4F4E-965F-D8C23522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90852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22E8-B02C-4645-AFA8-EA778416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90852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79E-0CE9-4D1D-8CF8-E69AF881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6172200"/>
            <a:ext cx="84582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895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18DF-70AC-41FE-A26A-064B6421AE54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533520" y="380880"/>
          <a:ext cx="9651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80880"/>
                    <a:ext cx="9651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533A-0FDD-4201-86A3-AE12CB7BF3B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cc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cc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8" name="fig22-1" descr=""/>
          <p:cNvPicPr/>
          <p:nvPr/>
        </p:nvPicPr>
        <p:blipFill>
          <a:blip r:embed="rId1"/>
          <a:stretch/>
        </p:blipFill>
        <p:spPr>
          <a:xfrm>
            <a:off x="0" y="1665360"/>
            <a:ext cx="9144000" cy="352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92E-372E-44FD-9571-0A327FFCD7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858000" cy="4427640"/>
          </a:xfrm>
          <a:prstGeom prst="rect">
            <a:avLst/>
          </a:prstGeom>
          <a:ln w="0">
            <a:noFill/>
          </a:ln>
        </p:spPr>
      </p:pic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Obilazak u širinu (BFS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9C89-B071-45F8-A9FB-FB68AA1485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fig22-3" descr=""/>
          <p:cNvPicPr/>
          <p:nvPr/>
        </p:nvPicPr>
        <p:blipFill>
          <a:blip r:embed="rId1"/>
          <a:srcRect l="0" t="0" r="0" b="15647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C1A-DA4B-46C8-9CB4-8BF96642B9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fig22-9" descr=""/>
          <p:cNvPicPr/>
          <p:nvPr/>
        </p:nvPicPr>
        <p:blipFill>
          <a:blip r:embed="rId1"/>
          <a:srcRect l="0" t="0" r="31817" b="75943"/>
          <a:stretch/>
        </p:blipFill>
        <p:spPr>
          <a:xfrm>
            <a:off x="1066680" y="2057400"/>
            <a:ext cx="6400800" cy="3408480"/>
          </a:xfrm>
          <a:prstGeom prst="rect">
            <a:avLst/>
          </a:prstGeom>
          <a:ln w="0">
            <a:noFill/>
          </a:ln>
        </p:spPr>
      </p:pic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DF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2BC-EACC-4B80-92A6-9AFF22C132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BF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909" name="BFS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910" name=""/>
          <p:cNvSpPr/>
          <p:nvPr/>
        </p:nvSpPr>
        <p:spPr>
          <a:xfrm>
            <a:off x="228600" y="457200"/>
            <a:ext cx="868680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"/>
          <p:cNvSpPr/>
          <p:nvPr/>
        </p:nvSpPr>
        <p:spPr>
          <a:xfrm>
            <a:off x="6628320" y="114300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標楷體"/>
              </a:rPr>
              <a:t>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"/>
          <p:cNvSpPr/>
          <p:nvPr/>
        </p:nvSpPr>
        <p:spPr>
          <a:xfrm>
            <a:off x="4876920" y="190512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"/>
          <p:cNvSpPr/>
          <p:nvPr/>
        </p:nvSpPr>
        <p:spPr>
          <a:xfrm>
            <a:off x="5179320" y="2438280"/>
            <a:ext cx="30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標楷體"/>
              </a:rPr>
              <a:t>Set up s and initialize 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152280" y="3886200"/>
            <a:ext cx="8915400" cy="2301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"/>
          <p:cNvSpPr/>
          <p:nvPr/>
        </p:nvSpPr>
        <p:spPr>
          <a:xfrm>
            <a:off x="833400" y="5257800"/>
            <a:ext cx="43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標楷體"/>
              </a:rPr>
              <a:t>Explore all the vertices adjacent 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標楷體"/>
              </a:rPr>
              <a:t>u and update d,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標楷體"/>
              </a:rPr>
              <a:t> and 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F2A-1665-4580-9F05-69BE5FF4C2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Depth first traversal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C921-37AB-4D19-9623-3BCB9E378F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019920" cy="445284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Obilazak u dubinu (DFS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A81F-1234-4C20-92FC-4CEDE057CB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fig22-4" descr=""/>
          <p:cNvPicPr/>
          <p:nvPr/>
        </p:nvPicPr>
        <p:blipFill>
          <a:blip r:embed="rId1"/>
          <a:srcRect l="0" t="0" r="0" b="180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4DE5-E584-435F-AE67-A6E5FCCE43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DF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922" name="DFS_visit" descr=""/>
          <p:cNvPicPr/>
          <p:nvPr/>
        </p:nvPicPr>
        <p:blipFill>
          <a:blip r:embed="rId2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8453-EA30-4B0A-A5FB-5B556A372E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opolo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ško sortiranj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869D-5FA2-4056-92DE-DF68FEFC84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fig22-7" descr=""/>
          <p:cNvPicPr/>
          <p:nvPr/>
        </p:nvPicPr>
        <p:blipFill>
          <a:blip r:embed="rId1"/>
          <a:srcRect l="0" t="0" r="0" b="286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0CAF-966C-4E7E-A827-9A74B225A2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0" name="fig22-2" descr=""/>
          <p:cNvPicPr/>
          <p:nvPr/>
        </p:nvPicPr>
        <p:blipFill>
          <a:blip r:embed="rId1"/>
          <a:stretch/>
        </p:blipFill>
        <p:spPr>
          <a:xfrm>
            <a:off x="0" y="1577880"/>
            <a:ext cx="9144000" cy="3702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221240" y="39988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cc"/>
                </a:solidFill>
                <a:latin typeface="Arial"/>
                <a:ea typeface="標楷體"/>
              </a:rPr>
              <a:t>1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標楷體"/>
              </a:rPr>
              <a:t>bit per en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2DC-EA7A-4E9C-A401-586B768823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lgoritam za najkraće puteve iz datog čvor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Dijks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B38B-4414-456B-91BC-84A40CE25C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37" name=""/>
          <p:cNvCxnSpPr>
            <a:stCxn id="933" idx="6"/>
            <a:endCxn id="929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8" name=""/>
          <p:cNvCxnSpPr>
            <a:stCxn id="932" idx="0"/>
            <a:endCxn id="929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9" name=""/>
          <p:cNvCxnSpPr>
            <a:stCxn id="932" idx="7"/>
            <a:endCxn id="935" idx="3"/>
          </p:cNvCxnSpPr>
          <p:nvPr/>
        </p:nvCxnSpPr>
        <p:spPr>
          <a:xfrm flipV="1">
            <a:off x="5452560" y="3912840"/>
            <a:ext cx="144396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0" name=""/>
          <p:cNvCxnSpPr>
            <a:stCxn id="935" idx="0"/>
            <a:endCxn id="930" idx="3"/>
          </p:cNvCxnSpPr>
          <p:nvPr/>
        </p:nvCxnSpPr>
        <p:spPr>
          <a:xfrm flipV="1">
            <a:off x="7292880" y="2517120"/>
            <a:ext cx="7264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1" name=""/>
          <p:cNvCxnSpPr>
            <a:stCxn id="929" idx="6"/>
            <a:endCxn id="930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2" name=""/>
          <p:cNvCxnSpPr>
            <a:stCxn id="936" idx="6"/>
            <a:endCxn id="934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3" name=""/>
          <p:cNvCxnSpPr>
            <a:stCxn id="933" idx="4"/>
            <a:endCxn id="934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4" name=""/>
          <p:cNvCxnSpPr>
            <a:stCxn id="935" idx="4"/>
            <a:endCxn id="931" idx="0"/>
          </p:cNvCxnSpPr>
          <p:nvPr/>
        </p:nvCxnSpPr>
        <p:spPr>
          <a:xfrm>
            <a:off x="7294680" y="4025880"/>
            <a:ext cx="821520" cy="1232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45" name=""/>
          <p:cNvCxnSpPr>
            <a:endCxn id="932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6" name=""/>
          <p:cNvCxnSpPr>
            <a:stCxn id="934" idx="6"/>
            <a:endCxn id="932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7" name=""/>
          <p:cNvCxnSpPr>
            <a:stCxn id="934" idx="7"/>
            <a:endCxn id="929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8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59" name=""/>
          <p:cNvCxnSpPr>
            <a:stCxn id="930" idx="4"/>
            <a:endCxn id="931" idx="7"/>
          </p:cNvCxnSpPr>
          <p:nvPr/>
        </p:nvCxnSpPr>
        <p:spPr>
          <a:xfrm>
            <a:off x="8416440" y="2630520"/>
            <a:ext cx="96120" cy="2750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60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4689720" y="56386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6594840" y="4038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7998120" y="2514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3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963-515D-4292-B654-D4A37A11C9D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6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73" name=""/>
          <p:cNvCxnSpPr>
            <a:stCxn id="969" idx="6"/>
            <a:endCxn id="965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4" name=""/>
          <p:cNvCxnSpPr>
            <a:stCxn id="968" idx="0"/>
            <a:endCxn id="965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5" name=""/>
          <p:cNvCxnSpPr>
            <a:stCxn id="968" idx="7"/>
            <a:endCxn id="971" idx="3"/>
          </p:cNvCxnSpPr>
          <p:nvPr/>
        </p:nvCxnSpPr>
        <p:spPr>
          <a:xfrm flipV="1">
            <a:off x="5452560" y="3912840"/>
            <a:ext cx="144396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6" name=""/>
          <p:cNvCxnSpPr>
            <a:stCxn id="971" idx="0"/>
            <a:endCxn id="966" idx="3"/>
          </p:cNvCxnSpPr>
          <p:nvPr/>
        </p:nvCxnSpPr>
        <p:spPr>
          <a:xfrm flipV="1">
            <a:off x="7292880" y="2517120"/>
            <a:ext cx="7264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7" name=""/>
          <p:cNvCxnSpPr>
            <a:stCxn id="965" idx="6"/>
            <a:endCxn id="966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8" name=""/>
          <p:cNvCxnSpPr>
            <a:stCxn id="972" idx="6"/>
            <a:endCxn id="970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9" name=""/>
          <p:cNvCxnSpPr>
            <a:stCxn id="969" idx="4"/>
            <a:endCxn id="970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0" name=""/>
          <p:cNvCxnSpPr>
            <a:stCxn id="971" idx="4"/>
            <a:endCxn id="967" idx="0"/>
          </p:cNvCxnSpPr>
          <p:nvPr/>
        </p:nvCxnSpPr>
        <p:spPr>
          <a:xfrm>
            <a:off x="7294680" y="4025880"/>
            <a:ext cx="821520" cy="1232280"/>
          </a:xfrm>
          <a:prstGeom prst="straightConnector1">
            <a:avLst/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981" name=""/>
          <p:cNvCxnSpPr>
            <a:endCxn id="968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2" name=""/>
          <p:cNvCxnSpPr>
            <a:stCxn id="970" idx="6"/>
            <a:endCxn id="968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3" name=""/>
          <p:cNvCxnSpPr>
            <a:stCxn id="970" idx="7"/>
            <a:endCxn id="965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84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95" name=""/>
          <p:cNvCxnSpPr>
            <a:stCxn id="966" idx="4"/>
            <a:endCxn id="967" idx="7"/>
          </p:cNvCxnSpPr>
          <p:nvPr/>
        </p:nvCxnSpPr>
        <p:spPr>
          <a:xfrm>
            <a:off x="8416440" y="2630520"/>
            <a:ext cx="96120" cy="2750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"/>
          <p:cNvSpPr/>
          <p:nvPr/>
        </p:nvSpPr>
        <p:spPr>
          <a:xfrm>
            <a:off x="4689720" y="56386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"/>
          <p:cNvSpPr/>
          <p:nvPr/>
        </p:nvSpPr>
        <p:spPr>
          <a:xfrm>
            <a:off x="6594840" y="4038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"/>
          <p:cNvSpPr/>
          <p:nvPr/>
        </p:nvSpPr>
        <p:spPr>
          <a:xfrm>
            <a:off x="7998120" y="2514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3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C1FB-789A-4852-992E-996A74A2CBC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09" name=""/>
          <p:cNvCxnSpPr>
            <a:stCxn id="1005" idx="6"/>
            <a:endCxn id="1001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0" name=""/>
          <p:cNvCxnSpPr>
            <a:stCxn id="1004" idx="0"/>
            <a:endCxn id="1001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1" name=""/>
          <p:cNvCxnSpPr>
            <a:stCxn id="1004" idx="7"/>
            <a:endCxn id="1007" idx="3"/>
          </p:cNvCxnSpPr>
          <p:nvPr/>
        </p:nvCxnSpPr>
        <p:spPr>
          <a:xfrm flipV="1">
            <a:off x="5452560" y="3912840"/>
            <a:ext cx="144396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2" name=""/>
          <p:cNvCxnSpPr>
            <a:stCxn id="1007" idx="0"/>
            <a:endCxn id="1002" idx="3"/>
          </p:cNvCxnSpPr>
          <p:nvPr/>
        </p:nvCxnSpPr>
        <p:spPr>
          <a:xfrm flipV="1">
            <a:off x="7292880" y="2517120"/>
            <a:ext cx="726480" cy="648360"/>
          </a:xfrm>
          <a:prstGeom prst="straightConnector1">
            <a:avLst/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013" name=""/>
          <p:cNvCxnSpPr>
            <a:stCxn id="1001" idx="6"/>
            <a:endCxn id="1002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4" name=""/>
          <p:cNvCxnSpPr>
            <a:stCxn id="1008" idx="6"/>
            <a:endCxn id="1006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5" name=""/>
          <p:cNvCxnSpPr>
            <a:stCxn id="1005" idx="4"/>
            <a:endCxn id="1006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6" name=""/>
          <p:cNvCxnSpPr>
            <a:stCxn id="1007" idx="4"/>
            <a:endCxn id="1003" idx="0"/>
          </p:cNvCxnSpPr>
          <p:nvPr/>
        </p:nvCxnSpPr>
        <p:spPr>
          <a:xfrm>
            <a:off x="7294680" y="4025880"/>
            <a:ext cx="821520" cy="1232280"/>
          </a:xfrm>
          <a:prstGeom prst="straightConnector1">
            <a:avLst/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017" name=""/>
          <p:cNvCxnSpPr>
            <a:endCxn id="1004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8" name=""/>
          <p:cNvCxnSpPr>
            <a:stCxn id="1006" idx="6"/>
            <a:endCxn id="1004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9" name=""/>
          <p:cNvCxnSpPr>
            <a:stCxn id="1006" idx="7"/>
            <a:endCxn id="1001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20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31" name=""/>
          <p:cNvCxnSpPr>
            <a:stCxn id="1002" idx="4"/>
            <a:endCxn id="1003" idx="7"/>
          </p:cNvCxnSpPr>
          <p:nvPr/>
        </p:nvCxnSpPr>
        <p:spPr>
          <a:xfrm>
            <a:off x="8416440" y="2630520"/>
            <a:ext cx="96120" cy="2750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32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"/>
          <p:cNvSpPr/>
          <p:nvPr/>
        </p:nvSpPr>
        <p:spPr>
          <a:xfrm>
            <a:off x="4689720" y="56386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"/>
          <p:cNvSpPr/>
          <p:nvPr/>
        </p:nvSpPr>
        <p:spPr>
          <a:xfrm>
            <a:off x="6594840" y="4038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"/>
          <p:cNvSpPr/>
          <p:nvPr/>
        </p:nvSpPr>
        <p:spPr>
          <a:xfrm>
            <a:off x="7998120" y="25146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24</a:t>
            </a:r>
            <a:r>
              <a:rPr b="1" lang="sr-Latn-CS" sz="2400" spc="-1" strike="noStrike">
                <a:solidFill>
                  <a:srgbClr val="ff99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"/>
          <p:cNvSpPr/>
          <p:nvPr/>
        </p:nvSpPr>
        <p:spPr>
          <a:xfrm>
            <a:off x="5930640" y="6289560"/>
            <a:ext cx="1538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 tako dal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29FE-18C1-4A72-B207-0B2BFB49B54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46" name=""/>
          <p:cNvCxnSpPr>
            <a:stCxn id="1042" idx="6"/>
            <a:endCxn id="1038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7" name=""/>
          <p:cNvCxnSpPr>
            <a:stCxn id="1041" idx="0"/>
            <a:endCxn id="1038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8" name=""/>
          <p:cNvCxnSpPr>
            <a:stCxn id="1041" idx="7"/>
            <a:endCxn id="1044" idx="3"/>
          </p:cNvCxnSpPr>
          <p:nvPr/>
        </p:nvCxnSpPr>
        <p:spPr>
          <a:xfrm flipV="1">
            <a:off x="5452560" y="3912840"/>
            <a:ext cx="144396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9" name=""/>
          <p:cNvCxnSpPr>
            <a:stCxn id="1044" idx="0"/>
            <a:endCxn id="1039" idx="3"/>
          </p:cNvCxnSpPr>
          <p:nvPr/>
        </p:nvCxnSpPr>
        <p:spPr>
          <a:xfrm flipV="1">
            <a:off x="7292880" y="2517120"/>
            <a:ext cx="7264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0" name=""/>
          <p:cNvCxnSpPr>
            <a:stCxn id="1038" idx="6"/>
            <a:endCxn id="1039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1" name=""/>
          <p:cNvCxnSpPr>
            <a:stCxn id="1045" idx="6"/>
            <a:endCxn id="1043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2" name=""/>
          <p:cNvCxnSpPr>
            <a:stCxn id="1042" idx="4"/>
            <a:endCxn id="1043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3" name=""/>
          <p:cNvCxnSpPr>
            <a:stCxn id="1044" idx="4"/>
            <a:endCxn id="1040" idx="0"/>
          </p:cNvCxnSpPr>
          <p:nvPr/>
        </p:nvCxnSpPr>
        <p:spPr>
          <a:xfrm>
            <a:off x="7294680" y="4025880"/>
            <a:ext cx="82152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4" name=""/>
          <p:cNvCxnSpPr>
            <a:endCxn id="1041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5" name=""/>
          <p:cNvCxnSpPr>
            <a:stCxn id="1043" idx="6"/>
            <a:endCxn id="1041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6" name=""/>
          <p:cNvCxnSpPr>
            <a:stCxn id="1043" idx="7"/>
            <a:endCxn id="1038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57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68" name=""/>
          <p:cNvCxnSpPr>
            <a:stCxn id="1039" idx="4"/>
            <a:endCxn id="1040" idx="7"/>
          </p:cNvCxnSpPr>
          <p:nvPr/>
        </p:nvCxnSpPr>
        <p:spPr>
          <a:xfrm>
            <a:off x="8416440" y="2630520"/>
            <a:ext cx="96120" cy="2750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69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"/>
          <p:cNvSpPr/>
          <p:nvPr/>
        </p:nvSpPr>
        <p:spPr>
          <a:xfrm>
            <a:off x="4794480" y="55656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"/>
          <p:cNvSpPr/>
          <p:nvPr/>
        </p:nvSpPr>
        <p:spPr>
          <a:xfrm>
            <a:off x="2660760" y="53341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"/>
          <p:cNvSpPr/>
          <p:nvPr/>
        </p:nvSpPr>
        <p:spPr>
          <a:xfrm>
            <a:off x="5538960" y="27734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"/>
          <p:cNvSpPr/>
          <p:nvPr/>
        </p:nvSpPr>
        <p:spPr>
          <a:xfrm>
            <a:off x="8434440" y="243828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"/>
          <p:cNvSpPr/>
          <p:nvPr/>
        </p:nvSpPr>
        <p:spPr>
          <a:xfrm>
            <a:off x="8241120" y="5996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"/>
          <p:cNvSpPr/>
          <p:nvPr/>
        </p:nvSpPr>
        <p:spPr>
          <a:xfrm>
            <a:off x="6834240" y="39625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C689-E67B-4DEC-81A7-F8A758076B1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87" name=""/>
          <p:cNvCxnSpPr>
            <a:stCxn id="1083" idx="6"/>
            <a:endCxn id="1079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88" name=""/>
          <p:cNvCxnSpPr>
            <a:stCxn id="1082" idx="0"/>
            <a:endCxn id="1079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89" name=""/>
          <p:cNvCxnSpPr>
            <a:stCxn id="1082" idx="7"/>
            <a:endCxn id="1085" idx="3"/>
          </p:cNvCxnSpPr>
          <p:nvPr/>
        </p:nvCxnSpPr>
        <p:spPr>
          <a:xfrm flipV="1">
            <a:off x="5452560" y="3912840"/>
            <a:ext cx="144396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0" name=""/>
          <p:cNvCxnSpPr>
            <a:stCxn id="1085" idx="0"/>
            <a:endCxn id="1080" idx="3"/>
          </p:cNvCxnSpPr>
          <p:nvPr/>
        </p:nvCxnSpPr>
        <p:spPr>
          <a:xfrm flipV="1">
            <a:off x="7292880" y="2517120"/>
            <a:ext cx="7264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1" name=""/>
          <p:cNvCxnSpPr>
            <a:stCxn id="1079" idx="6"/>
            <a:endCxn id="1080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2" name=""/>
          <p:cNvCxnSpPr>
            <a:stCxn id="1086" idx="6"/>
            <a:endCxn id="1084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3" name=""/>
          <p:cNvCxnSpPr>
            <a:stCxn id="1083" idx="4"/>
            <a:endCxn id="1084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4" name=""/>
          <p:cNvCxnSpPr>
            <a:stCxn id="1085" idx="4"/>
            <a:endCxn id="1081" idx="0"/>
          </p:cNvCxnSpPr>
          <p:nvPr/>
        </p:nvCxnSpPr>
        <p:spPr>
          <a:xfrm>
            <a:off x="7292520" y="4033440"/>
            <a:ext cx="823320" cy="1199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5" name=""/>
          <p:cNvCxnSpPr>
            <a:endCxn id="1082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6" name=""/>
          <p:cNvCxnSpPr>
            <a:stCxn id="1084" idx="6"/>
            <a:endCxn id="1082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7" name=""/>
          <p:cNvCxnSpPr>
            <a:stCxn id="1084" idx="7"/>
            <a:endCxn id="1079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98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1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5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09" name=""/>
          <p:cNvCxnSpPr>
            <a:stCxn id="1080" idx="4"/>
            <a:endCxn id="1081" idx="7"/>
          </p:cNvCxnSpPr>
          <p:nvPr/>
        </p:nvCxnSpPr>
        <p:spPr>
          <a:xfrm>
            <a:off x="8415000" y="2638080"/>
            <a:ext cx="99000" cy="2716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10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"/>
          <p:cNvSpPr/>
          <p:nvPr/>
        </p:nvSpPr>
        <p:spPr>
          <a:xfrm>
            <a:off x="4794480" y="55656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"/>
          <p:cNvSpPr/>
          <p:nvPr/>
        </p:nvSpPr>
        <p:spPr>
          <a:xfrm>
            <a:off x="2660760" y="53341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"/>
          <p:cNvSpPr/>
          <p:nvPr/>
        </p:nvSpPr>
        <p:spPr>
          <a:xfrm>
            <a:off x="5538960" y="27734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"/>
          <p:cNvSpPr/>
          <p:nvPr/>
        </p:nvSpPr>
        <p:spPr>
          <a:xfrm>
            <a:off x="8434440" y="243828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"/>
          <p:cNvSpPr/>
          <p:nvPr/>
        </p:nvSpPr>
        <p:spPr>
          <a:xfrm>
            <a:off x="8241120" y="5996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"/>
          <p:cNvSpPr/>
          <p:nvPr/>
        </p:nvSpPr>
        <p:spPr>
          <a:xfrm>
            <a:off x="6834240" y="39625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940C-CC38-4486-A646-B022ABB1065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28" name=""/>
          <p:cNvCxnSpPr>
            <a:stCxn id="1124" idx="6"/>
            <a:endCxn id="1120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29" name=""/>
          <p:cNvCxnSpPr>
            <a:stCxn id="1123" idx="0"/>
            <a:endCxn id="1120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0" name=""/>
          <p:cNvCxnSpPr>
            <a:stCxn id="1123" idx="7"/>
            <a:endCxn id="1126" idx="3"/>
          </p:cNvCxnSpPr>
          <p:nvPr/>
        </p:nvCxnSpPr>
        <p:spPr>
          <a:xfrm flipV="1">
            <a:off x="5452560" y="3912840"/>
            <a:ext cx="144396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1" name=""/>
          <p:cNvCxnSpPr>
            <a:stCxn id="1126" idx="0"/>
            <a:endCxn id="1121" idx="3"/>
          </p:cNvCxnSpPr>
          <p:nvPr/>
        </p:nvCxnSpPr>
        <p:spPr>
          <a:xfrm flipV="1">
            <a:off x="7292880" y="2517120"/>
            <a:ext cx="7264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2" name=""/>
          <p:cNvCxnSpPr>
            <a:stCxn id="1120" idx="6"/>
            <a:endCxn id="1121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3" name=""/>
          <p:cNvCxnSpPr>
            <a:stCxn id="1127" idx="6"/>
            <a:endCxn id="1125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4" name=""/>
          <p:cNvCxnSpPr>
            <a:stCxn id="1124" idx="4"/>
            <a:endCxn id="1125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5" name=""/>
          <p:cNvCxnSpPr>
            <a:stCxn id="1126" idx="4"/>
            <a:endCxn id="1122" idx="0"/>
          </p:cNvCxnSpPr>
          <p:nvPr/>
        </p:nvCxnSpPr>
        <p:spPr>
          <a:xfrm>
            <a:off x="7292520" y="4033440"/>
            <a:ext cx="823320" cy="1199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136" name=""/>
          <p:cNvCxnSpPr>
            <a:endCxn id="1123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137" name=""/>
          <p:cNvCxnSpPr>
            <a:stCxn id="1125" idx="6"/>
            <a:endCxn id="1123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8" name=""/>
          <p:cNvCxnSpPr>
            <a:stCxn id="1125" idx="7"/>
            <a:endCxn id="1120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39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50" name=""/>
          <p:cNvCxnSpPr>
            <a:stCxn id="1121" idx="4"/>
            <a:endCxn id="1122" idx="7"/>
          </p:cNvCxnSpPr>
          <p:nvPr/>
        </p:nvCxnSpPr>
        <p:spPr>
          <a:xfrm>
            <a:off x="8415000" y="2638080"/>
            <a:ext cx="99000" cy="2716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151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"/>
          <p:cNvSpPr/>
          <p:nvPr/>
        </p:nvSpPr>
        <p:spPr>
          <a:xfrm>
            <a:off x="6840000" y="41752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"/>
          <p:cNvSpPr/>
          <p:nvPr/>
        </p:nvSpPr>
        <p:spPr>
          <a:xfrm>
            <a:off x="842112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"/>
          <p:cNvSpPr/>
          <p:nvPr/>
        </p:nvSpPr>
        <p:spPr>
          <a:xfrm>
            <a:off x="2660760" y="53341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"/>
          <p:cNvSpPr/>
          <p:nvPr/>
        </p:nvSpPr>
        <p:spPr>
          <a:xfrm>
            <a:off x="5538960" y="27734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"/>
          <p:cNvSpPr/>
          <p:nvPr/>
        </p:nvSpPr>
        <p:spPr>
          <a:xfrm>
            <a:off x="8241120" y="6019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09F0-943F-41E6-A636-628A5343EFE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69" name=""/>
          <p:cNvCxnSpPr>
            <a:stCxn id="1165" idx="6"/>
            <a:endCxn id="1161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0" name=""/>
          <p:cNvCxnSpPr>
            <a:stCxn id="1164" idx="0"/>
            <a:endCxn id="1161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1" name=""/>
          <p:cNvCxnSpPr>
            <a:stCxn id="1164" idx="7"/>
            <a:endCxn id="1167" idx="3"/>
          </p:cNvCxnSpPr>
          <p:nvPr/>
        </p:nvCxnSpPr>
        <p:spPr>
          <a:xfrm flipV="1">
            <a:off x="5451120" y="3912840"/>
            <a:ext cx="1446840" cy="1033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2" name=""/>
          <p:cNvCxnSpPr>
            <a:stCxn id="1167" idx="0"/>
            <a:endCxn id="1162" idx="3"/>
          </p:cNvCxnSpPr>
          <p:nvPr/>
        </p:nvCxnSpPr>
        <p:spPr>
          <a:xfrm flipV="1">
            <a:off x="7294320" y="2507760"/>
            <a:ext cx="726120" cy="656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3" name=""/>
          <p:cNvCxnSpPr>
            <a:stCxn id="1161" idx="6"/>
            <a:endCxn id="1162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4" name=""/>
          <p:cNvCxnSpPr>
            <a:stCxn id="1168" idx="6"/>
            <a:endCxn id="1166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5" name=""/>
          <p:cNvCxnSpPr>
            <a:stCxn id="1165" idx="4"/>
            <a:endCxn id="1166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6" name=""/>
          <p:cNvCxnSpPr>
            <a:stCxn id="1167" idx="4"/>
            <a:endCxn id="1163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177" name=""/>
          <p:cNvCxnSpPr>
            <a:endCxn id="1164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178" name=""/>
          <p:cNvCxnSpPr>
            <a:stCxn id="1166" idx="6"/>
            <a:endCxn id="1164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9" name=""/>
          <p:cNvCxnSpPr>
            <a:stCxn id="1166" idx="7"/>
            <a:endCxn id="1161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80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91" name=""/>
          <p:cNvCxnSpPr>
            <a:stCxn id="1162" idx="4"/>
            <a:endCxn id="1163" idx="7"/>
          </p:cNvCxnSpPr>
          <p:nvPr/>
        </p:nvCxnSpPr>
        <p:spPr>
          <a:xfrm>
            <a:off x="8415000" y="2638080"/>
            <a:ext cx="99000" cy="2716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192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"/>
          <p:cNvSpPr/>
          <p:nvPr/>
        </p:nvSpPr>
        <p:spPr>
          <a:xfrm>
            <a:off x="2660760" y="53341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"/>
          <p:cNvSpPr/>
          <p:nvPr/>
        </p:nvSpPr>
        <p:spPr>
          <a:xfrm>
            <a:off x="5538960" y="27734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579-E82D-4DD9-A62F-0C444465BAD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10" name=""/>
          <p:cNvCxnSpPr>
            <a:stCxn id="1206" idx="6"/>
            <a:endCxn id="1202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1" name=""/>
          <p:cNvCxnSpPr>
            <a:stCxn id="1205" idx="0"/>
            <a:endCxn id="1202" idx="4"/>
          </p:cNvCxnSpPr>
          <p:nvPr/>
        </p:nvCxnSpPr>
        <p:spPr>
          <a:xfrm flipV="1">
            <a:off x="5055840" y="2921760"/>
            <a:ext cx="346680" cy="1894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2" name=""/>
          <p:cNvCxnSpPr>
            <a:stCxn id="1205" idx="7"/>
            <a:endCxn id="1208" idx="3"/>
          </p:cNvCxnSpPr>
          <p:nvPr/>
        </p:nvCxnSpPr>
        <p:spPr>
          <a:xfrm flipV="1">
            <a:off x="5451120" y="3912840"/>
            <a:ext cx="1446840" cy="1033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3" name=""/>
          <p:cNvCxnSpPr>
            <a:stCxn id="1208" idx="0"/>
            <a:endCxn id="1203" idx="3"/>
          </p:cNvCxnSpPr>
          <p:nvPr/>
        </p:nvCxnSpPr>
        <p:spPr>
          <a:xfrm flipV="1">
            <a:off x="7294320" y="2507760"/>
            <a:ext cx="726120" cy="656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14" name=""/>
          <p:cNvCxnSpPr>
            <a:stCxn id="1202" idx="6"/>
            <a:endCxn id="1203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5" name=""/>
          <p:cNvCxnSpPr>
            <a:stCxn id="1209" idx="6"/>
            <a:endCxn id="1207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6" name=""/>
          <p:cNvCxnSpPr>
            <a:stCxn id="1206" idx="4"/>
            <a:endCxn id="1207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7" name=""/>
          <p:cNvCxnSpPr>
            <a:stCxn id="1208" idx="4"/>
            <a:endCxn id="1204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18" name=""/>
          <p:cNvCxnSpPr>
            <a:endCxn id="1205" idx="6"/>
          </p:cNvCxnSpPr>
          <p:nvPr/>
        </p:nvCxnSpPr>
        <p:spPr>
          <a:xfrm flipH="1" flipV="1">
            <a:off x="5625720" y="5250600"/>
            <a:ext cx="1915200" cy="435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19" name=""/>
          <p:cNvCxnSpPr>
            <a:stCxn id="1207" idx="6"/>
            <a:endCxn id="1205" idx="2"/>
          </p:cNvCxnSpPr>
          <p:nvPr/>
        </p:nvCxnSpPr>
        <p:spPr>
          <a:xfrm>
            <a:off x="3508200" y="4989240"/>
            <a:ext cx="97560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20" name=""/>
          <p:cNvCxnSpPr>
            <a:stCxn id="1207" idx="7"/>
            <a:endCxn id="1202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21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32" name=""/>
          <p:cNvCxnSpPr>
            <a:stCxn id="1203" idx="4"/>
            <a:endCxn id="1204" idx="7"/>
          </p:cNvCxnSpPr>
          <p:nvPr/>
        </p:nvCxnSpPr>
        <p:spPr>
          <a:xfrm>
            <a:off x="8415000" y="2638080"/>
            <a:ext cx="99000" cy="2716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33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"/>
          <p:cNvSpPr/>
          <p:nvPr/>
        </p:nvSpPr>
        <p:spPr>
          <a:xfrm>
            <a:off x="2660760" y="53341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"/>
          <p:cNvSpPr/>
          <p:nvPr/>
        </p:nvSpPr>
        <p:spPr>
          <a:xfrm>
            <a:off x="5538960" y="27734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63C0-FB08-4E2B-90DC-8DCEEF3D5BE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6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51" name=""/>
          <p:cNvCxnSpPr>
            <a:stCxn id="1247" idx="6"/>
            <a:endCxn id="1243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2" name=""/>
          <p:cNvCxnSpPr>
            <a:stCxn id="1246" idx="0"/>
            <a:endCxn id="1243" idx="4"/>
          </p:cNvCxnSpPr>
          <p:nvPr/>
        </p:nvCxnSpPr>
        <p:spPr>
          <a:xfrm flipV="1">
            <a:off x="5055840" y="2913840"/>
            <a:ext cx="346680" cy="1901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3" name=""/>
          <p:cNvCxnSpPr>
            <a:stCxn id="1246" idx="7"/>
            <a:endCxn id="1249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4" name=""/>
          <p:cNvCxnSpPr>
            <a:stCxn id="1249" idx="0"/>
            <a:endCxn id="1244" idx="3"/>
          </p:cNvCxnSpPr>
          <p:nvPr/>
        </p:nvCxnSpPr>
        <p:spPr>
          <a:xfrm flipV="1">
            <a:off x="7294320" y="2507760"/>
            <a:ext cx="726120" cy="656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55" name=""/>
          <p:cNvCxnSpPr>
            <a:stCxn id="1243" idx="6"/>
            <a:endCxn id="1244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6" name=""/>
          <p:cNvCxnSpPr>
            <a:stCxn id="1250" idx="6"/>
            <a:endCxn id="1248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7" name=""/>
          <p:cNvCxnSpPr>
            <a:stCxn id="1247" idx="4"/>
            <a:endCxn id="1248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8" name=""/>
          <p:cNvCxnSpPr>
            <a:stCxn id="1249" idx="4"/>
            <a:endCxn id="1245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59" name=""/>
          <p:cNvCxnSpPr>
            <a:endCxn id="1246" idx="6"/>
          </p:cNvCxnSpPr>
          <p:nvPr/>
        </p:nvCxnSpPr>
        <p:spPr>
          <a:xfrm flipH="1" flipV="1">
            <a:off x="5635440" y="5250600"/>
            <a:ext cx="1915200" cy="4359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60" name=""/>
          <p:cNvCxnSpPr>
            <a:stCxn id="1248" idx="6"/>
            <a:endCxn id="1246" idx="2"/>
          </p:cNvCxnSpPr>
          <p:nvPr/>
        </p:nvCxnSpPr>
        <p:spPr>
          <a:xfrm>
            <a:off x="3506760" y="4989240"/>
            <a:ext cx="969120" cy="262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61" name=""/>
          <p:cNvCxnSpPr>
            <a:stCxn id="1248" idx="7"/>
            <a:endCxn id="1243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62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4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7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8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73" name=""/>
          <p:cNvCxnSpPr>
            <a:stCxn id="1244" idx="4"/>
            <a:endCxn id="1245" idx="7"/>
          </p:cNvCxnSpPr>
          <p:nvPr/>
        </p:nvCxnSpPr>
        <p:spPr>
          <a:xfrm>
            <a:off x="8415000" y="2638080"/>
            <a:ext cx="99000" cy="2716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74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"/>
          <p:cNvSpPr/>
          <p:nvPr/>
        </p:nvSpPr>
        <p:spPr>
          <a:xfrm>
            <a:off x="2660760" y="53341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"/>
          <p:cNvSpPr/>
          <p:nvPr/>
        </p:nvSpPr>
        <p:spPr>
          <a:xfrm>
            <a:off x="5538960" y="27734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411-5F84-49EA-B425-356B03F72E5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Graf: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2822400"/>
            <a:ext cx="93672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2666880"/>
            <a:ext cx="93672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988320" y="4575240"/>
            <a:ext cx="93636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435560" y="4336920"/>
            <a:ext cx="93672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051000"/>
            <a:ext cx="93672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4194000"/>
            <a:ext cx="93672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6302520" y="3432240"/>
            <a:ext cx="93636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965400"/>
            <a:ext cx="93672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1" name=""/>
          <p:cNvCxnSpPr>
            <a:stCxn id="97" idx="6"/>
            <a:endCxn id="93" idx="2"/>
          </p:cNvCxnSpPr>
          <p:nvPr/>
        </p:nvCxnSpPr>
        <p:spPr>
          <a:xfrm flipV="1">
            <a:off x="3460680" y="3050280"/>
            <a:ext cx="125496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96" idx="0"/>
            <a:endCxn id="93" idx="4"/>
          </p:cNvCxnSpPr>
          <p:nvPr/>
        </p:nvCxnSpPr>
        <p:spPr>
          <a:xfrm flipV="1">
            <a:off x="4903920" y="3289320"/>
            <a:ext cx="289440" cy="1038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96" idx="7"/>
            <a:endCxn id="99" idx="3"/>
          </p:cNvCxnSpPr>
          <p:nvPr/>
        </p:nvCxnSpPr>
        <p:spPr>
          <a:xfrm flipV="1">
            <a:off x="5235120" y="3831480"/>
            <a:ext cx="1204200" cy="562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99" idx="0"/>
            <a:endCxn id="94" idx="3"/>
          </p:cNvCxnSpPr>
          <p:nvPr/>
        </p:nvCxnSpPr>
        <p:spPr>
          <a:xfrm flipV="1">
            <a:off x="6770160" y="3066480"/>
            <a:ext cx="605880" cy="356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3" idx="6"/>
            <a:endCxn id="94" idx="2"/>
          </p:cNvCxnSpPr>
          <p:nvPr/>
        </p:nvCxnSpPr>
        <p:spPr>
          <a:xfrm flipV="1">
            <a:off x="5670720" y="2895480"/>
            <a:ext cx="1559520" cy="155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0" idx="6"/>
            <a:endCxn id="98" idx="2"/>
          </p:cNvCxnSpPr>
          <p:nvPr/>
        </p:nvCxnSpPr>
        <p:spPr>
          <a:xfrm>
            <a:off x="1631520" y="4193640"/>
            <a:ext cx="102636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7" idx="4"/>
            <a:endCxn id="98" idx="0"/>
          </p:cNvCxnSpPr>
          <p:nvPr/>
        </p:nvCxnSpPr>
        <p:spPr>
          <a:xfrm>
            <a:off x="2982600" y="3517920"/>
            <a:ext cx="153000" cy="667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9" idx="4"/>
            <a:endCxn id="95" idx="0"/>
          </p:cNvCxnSpPr>
          <p:nvPr/>
        </p:nvCxnSpPr>
        <p:spPr>
          <a:xfrm>
            <a:off x="6770160" y="3898800"/>
            <a:ext cx="686520" cy="667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endCxn id="96" idx="6"/>
          </p:cNvCxnSpPr>
          <p:nvPr/>
        </p:nvCxnSpPr>
        <p:spPr>
          <a:xfrm flipH="1" flipV="1">
            <a:off x="5381280" y="4565160"/>
            <a:ext cx="1597680" cy="239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98" idx="6"/>
            <a:endCxn id="96" idx="2"/>
          </p:cNvCxnSpPr>
          <p:nvPr/>
        </p:nvCxnSpPr>
        <p:spPr>
          <a:xfrm>
            <a:off x="3612960" y="4422240"/>
            <a:ext cx="813240" cy="143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98" idx="7"/>
            <a:endCxn id="93" idx="3"/>
          </p:cNvCxnSpPr>
          <p:nvPr/>
        </p:nvCxnSpPr>
        <p:spPr>
          <a:xfrm flipV="1">
            <a:off x="3467160" y="3222360"/>
            <a:ext cx="1394640" cy="1028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 rot="21252600">
            <a:off x="5995080" y="26478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 rot="16938000">
            <a:off x="4674240" y="3379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 rot="20055000">
            <a:off x="5344920" y="3796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rot="19463400">
            <a:off x="3531960" y="355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rot="20910600">
            <a:off x="3643200" y="2822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 rot="2626200">
            <a:off x="7013160" y="4025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 rot="565800">
            <a:off x="5884200" y="4330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 rot="695400">
            <a:off x="3684240" y="4149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 rot="4665000">
            <a:off x="2906640" y="36864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rot="832200">
            <a:off x="1836000" y="3965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 rot="19708200">
            <a:off x="6697080" y="2958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BA9D-6E06-4B02-ADB3-FF5D7061D5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92" name=""/>
          <p:cNvCxnSpPr>
            <a:stCxn id="1288" idx="6"/>
            <a:endCxn id="1284" idx="2"/>
          </p:cNvCxnSpPr>
          <p:nvPr/>
        </p:nvCxnSpPr>
        <p:spPr>
          <a:xfrm flipV="1">
            <a:off x="3325680" y="2487240"/>
            <a:ext cx="150408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93" name=""/>
          <p:cNvCxnSpPr>
            <a:stCxn id="1287" idx="0"/>
            <a:endCxn id="1284" idx="4"/>
          </p:cNvCxnSpPr>
          <p:nvPr/>
        </p:nvCxnSpPr>
        <p:spPr>
          <a:xfrm flipV="1">
            <a:off x="5055840" y="2913840"/>
            <a:ext cx="346680" cy="1901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94" name=""/>
          <p:cNvCxnSpPr>
            <a:stCxn id="1287" idx="7"/>
            <a:endCxn id="1290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95" name=""/>
          <p:cNvCxnSpPr>
            <a:stCxn id="1290" idx="0"/>
            <a:endCxn id="1285" idx="3"/>
          </p:cNvCxnSpPr>
          <p:nvPr/>
        </p:nvCxnSpPr>
        <p:spPr>
          <a:xfrm flipV="1">
            <a:off x="7294320" y="2507760"/>
            <a:ext cx="726120" cy="656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96" name=""/>
          <p:cNvCxnSpPr>
            <a:stCxn id="1284" idx="6"/>
            <a:endCxn id="1285" idx="2"/>
          </p:cNvCxnSpPr>
          <p:nvPr/>
        </p:nvCxnSpPr>
        <p:spPr>
          <a:xfrm flipV="1">
            <a:off x="5975280" y="2204280"/>
            <a:ext cx="186912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97" name=""/>
          <p:cNvCxnSpPr>
            <a:stCxn id="1291" idx="6"/>
            <a:endCxn id="1289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98" name=""/>
          <p:cNvCxnSpPr>
            <a:stCxn id="1288" idx="4"/>
            <a:endCxn id="1289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99" name=""/>
          <p:cNvCxnSpPr>
            <a:stCxn id="1290" idx="4"/>
            <a:endCxn id="1286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00" name=""/>
          <p:cNvCxnSpPr>
            <a:endCxn id="1287" idx="6"/>
          </p:cNvCxnSpPr>
          <p:nvPr/>
        </p:nvCxnSpPr>
        <p:spPr>
          <a:xfrm flipH="1" flipV="1">
            <a:off x="5635440" y="5250600"/>
            <a:ext cx="1915200" cy="4359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01" name=""/>
          <p:cNvCxnSpPr>
            <a:stCxn id="1289" idx="6"/>
            <a:endCxn id="1287" idx="2"/>
          </p:cNvCxnSpPr>
          <p:nvPr/>
        </p:nvCxnSpPr>
        <p:spPr>
          <a:xfrm>
            <a:off x="3506760" y="4989240"/>
            <a:ext cx="969120" cy="262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02" name=""/>
          <p:cNvCxnSpPr>
            <a:stCxn id="1289" idx="7"/>
            <a:endCxn id="1284" idx="3"/>
          </p:cNvCxnSpPr>
          <p:nvPr/>
        </p:nvCxnSpPr>
        <p:spPr>
          <a:xfrm flipV="1">
            <a:off x="3333240" y="2800080"/>
            <a:ext cx="1670760" cy="187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03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4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6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14" name=""/>
          <p:cNvCxnSpPr>
            <a:stCxn id="1285" idx="4"/>
            <a:endCxn id="1286" idx="7"/>
          </p:cNvCxnSpPr>
          <p:nvPr/>
        </p:nvCxnSpPr>
        <p:spPr>
          <a:xfrm>
            <a:off x="8415000" y="2638080"/>
            <a:ext cx="99000" cy="2716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15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"/>
          <p:cNvSpPr/>
          <p:nvPr/>
        </p:nvSpPr>
        <p:spPr>
          <a:xfrm>
            <a:off x="5577840" y="292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9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3" name=""/>
          <p:cNvSpPr/>
          <p:nvPr/>
        </p:nvSpPr>
        <p:spPr>
          <a:xfrm>
            <a:off x="2547360" y="5486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3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606-E3AC-426C-A5AD-7B7B60E3553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6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7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0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33" name=""/>
          <p:cNvCxnSpPr>
            <a:stCxn id="1329" idx="6"/>
            <a:endCxn id="1325" idx="2"/>
          </p:cNvCxnSpPr>
          <p:nvPr/>
        </p:nvCxnSpPr>
        <p:spPr>
          <a:xfrm flipV="1">
            <a:off x="3323880" y="2488680"/>
            <a:ext cx="1507320" cy="416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34" name=""/>
          <p:cNvCxnSpPr>
            <a:stCxn id="1328" idx="0"/>
            <a:endCxn id="1325" idx="4"/>
          </p:cNvCxnSpPr>
          <p:nvPr/>
        </p:nvCxnSpPr>
        <p:spPr>
          <a:xfrm flipV="1">
            <a:off x="5055840" y="2913840"/>
            <a:ext cx="346680" cy="1901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35" name=""/>
          <p:cNvCxnSpPr>
            <a:stCxn id="1328" idx="7"/>
            <a:endCxn id="1331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36" name=""/>
          <p:cNvCxnSpPr>
            <a:stCxn id="1331" idx="0"/>
            <a:endCxn id="1326" idx="3"/>
          </p:cNvCxnSpPr>
          <p:nvPr/>
        </p:nvCxnSpPr>
        <p:spPr>
          <a:xfrm flipV="1">
            <a:off x="7294320" y="2517120"/>
            <a:ext cx="726120" cy="6469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37" name=""/>
          <p:cNvCxnSpPr>
            <a:stCxn id="1325" idx="6"/>
            <a:endCxn id="1326" idx="2"/>
          </p:cNvCxnSpPr>
          <p:nvPr/>
        </p:nvCxnSpPr>
        <p:spPr>
          <a:xfrm flipV="1">
            <a:off x="5971680" y="2204640"/>
            <a:ext cx="1864440" cy="284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38" name=""/>
          <p:cNvCxnSpPr>
            <a:stCxn id="1332" idx="6"/>
            <a:endCxn id="1330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39" name=""/>
          <p:cNvCxnSpPr>
            <a:stCxn id="1329" idx="4"/>
            <a:endCxn id="1330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0" name=""/>
          <p:cNvCxnSpPr>
            <a:stCxn id="1331" idx="4"/>
            <a:endCxn id="1327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41" name=""/>
          <p:cNvCxnSpPr/>
          <p:nvPr/>
        </p:nvCxnSpPr>
        <p:spPr>
          <a:xfrm flipH="1" flipV="1">
            <a:off x="5638320" y="5257440"/>
            <a:ext cx="1915200" cy="43560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42" name=""/>
          <p:cNvCxnSpPr>
            <a:stCxn id="1330" idx="6"/>
            <a:endCxn id="1328" idx="2"/>
          </p:cNvCxnSpPr>
          <p:nvPr/>
        </p:nvCxnSpPr>
        <p:spPr>
          <a:xfrm>
            <a:off x="3506760" y="4989240"/>
            <a:ext cx="969120" cy="262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43" name=""/>
          <p:cNvCxnSpPr>
            <a:stCxn id="1330" idx="7"/>
            <a:endCxn id="1325" idx="3"/>
          </p:cNvCxnSpPr>
          <p:nvPr/>
        </p:nvCxnSpPr>
        <p:spPr>
          <a:xfrm flipV="1">
            <a:off x="3332160" y="2792160"/>
            <a:ext cx="1674000" cy="1892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44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5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6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7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8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0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1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55" name=""/>
          <p:cNvCxnSpPr>
            <a:stCxn id="1326" idx="4"/>
            <a:endCxn id="1327" idx="7"/>
          </p:cNvCxnSpPr>
          <p:nvPr/>
        </p:nvCxnSpPr>
        <p:spPr>
          <a:xfrm>
            <a:off x="8416440" y="2639520"/>
            <a:ext cx="96120" cy="2731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56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9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0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1" name=""/>
          <p:cNvSpPr/>
          <p:nvPr/>
        </p:nvSpPr>
        <p:spPr>
          <a:xfrm>
            <a:off x="2279880" y="3154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"/>
          <p:cNvSpPr/>
          <p:nvPr/>
        </p:nvSpPr>
        <p:spPr>
          <a:xfrm>
            <a:off x="5577840" y="292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9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"/>
          <p:cNvSpPr/>
          <p:nvPr/>
        </p:nvSpPr>
        <p:spPr>
          <a:xfrm>
            <a:off x="2547360" y="5486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3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8005-02A5-4C17-A9D1-01D419DCD86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7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9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74" name=""/>
          <p:cNvCxnSpPr>
            <a:stCxn id="1370" idx="6"/>
            <a:endCxn id="1366" idx="2"/>
          </p:cNvCxnSpPr>
          <p:nvPr/>
        </p:nvCxnSpPr>
        <p:spPr>
          <a:xfrm flipV="1">
            <a:off x="3324240" y="2488680"/>
            <a:ext cx="1497600" cy="416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75" name=""/>
          <p:cNvCxnSpPr>
            <a:stCxn id="1369" idx="0"/>
            <a:endCxn id="1366" idx="4"/>
          </p:cNvCxnSpPr>
          <p:nvPr/>
        </p:nvCxnSpPr>
        <p:spPr>
          <a:xfrm flipV="1">
            <a:off x="5055840" y="2923920"/>
            <a:ext cx="346680" cy="189144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76" name=""/>
          <p:cNvCxnSpPr>
            <a:stCxn id="1369" idx="7"/>
            <a:endCxn id="1372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7" name=""/>
          <p:cNvCxnSpPr>
            <a:stCxn id="1372" idx="0"/>
            <a:endCxn id="1367" idx="3"/>
          </p:cNvCxnSpPr>
          <p:nvPr/>
        </p:nvCxnSpPr>
        <p:spPr>
          <a:xfrm flipV="1">
            <a:off x="7294320" y="2517120"/>
            <a:ext cx="726120" cy="6469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78" name=""/>
          <p:cNvCxnSpPr>
            <a:stCxn id="1366" idx="6"/>
            <a:endCxn id="1367" idx="2"/>
          </p:cNvCxnSpPr>
          <p:nvPr/>
        </p:nvCxnSpPr>
        <p:spPr>
          <a:xfrm flipV="1">
            <a:off x="5981760" y="2204640"/>
            <a:ext cx="1854720" cy="284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9" name=""/>
          <p:cNvCxnSpPr>
            <a:stCxn id="1373" idx="6"/>
            <a:endCxn id="1371" idx="2"/>
          </p:cNvCxnSpPr>
          <p:nvPr/>
        </p:nvCxnSpPr>
        <p:spPr>
          <a:xfrm>
            <a:off x="1133280" y="4572000"/>
            <a:ext cx="1230840" cy="418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0" name=""/>
          <p:cNvCxnSpPr>
            <a:stCxn id="1370" idx="4"/>
            <a:endCxn id="1371" idx="0"/>
          </p:cNvCxnSpPr>
          <p:nvPr/>
        </p:nvCxnSpPr>
        <p:spPr>
          <a:xfrm>
            <a:off x="2752560" y="3338640"/>
            <a:ext cx="183600" cy="1218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72" idx="4"/>
            <a:endCxn id="1368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82" name=""/>
          <p:cNvCxnSpPr>
            <a:endCxn id="1369" idx="6"/>
          </p:cNvCxnSpPr>
          <p:nvPr/>
        </p:nvCxnSpPr>
        <p:spPr>
          <a:xfrm flipH="1" flipV="1">
            <a:off x="5635440" y="5250600"/>
            <a:ext cx="1915200" cy="4359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383" name=""/>
          <p:cNvCxnSpPr>
            <a:stCxn id="1371" idx="6"/>
            <a:endCxn id="1369" idx="2"/>
          </p:cNvCxnSpPr>
          <p:nvPr/>
        </p:nvCxnSpPr>
        <p:spPr>
          <a:xfrm>
            <a:off x="3506760" y="4989240"/>
            <a:ext cx="969120" cy="262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71" idx="7"/>
            <a:endCxn id="1366" idx="3"/>
          </p:cNvCxnSpPr>
          <p:nvPr/>
        </p:nvCxnSpPr>
        <p:spPr>
          <a:xfrm flipV="1">
            <a:off x="3332160" y="2801520"/>
            <a:ext cx="1674000" cy="1883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85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96" name=""/>
          <p:cNvCxnSpPr>
            <a:stCxn id="1367" idx="4"/>
            <a:endCxn id="1368" idx="7"/>
          </p:cNvCxnSpPr>
          <p:nvPr/>
        </p:nvCxnSpPr>
        <p:spPr>
          <a:xfrm>
            <a:off x="8416440" y="2639520"/>
            <a:ext cx="96120" cy="2731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97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"/>
          <p:cNvSpPr/>
          <p:nvPr/>
        </p:nvSpPr>
        <p:spPr>
          <a:xfrm>
            <a:off x="374760" y="4876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"/>
          <p:cNvSpPr/>
          <p:nvPr/>
        </p:nvSpPr>
        <p:spPr>
          <a:xfrm>
            <a:off x="5577840" y="292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9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"/>
          <p:cNvSpPr/>
          <p:nvPr/>
        </p:nvSpPr>
        <p:spPr>
          <a:xfrm>
            <a:off x="2547360" y="5486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3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"/>
          <p:cNvSpPr/>
          <p:nvPr/>
        </p:nvSpPr>
        <p:spPr>
          <a:xfrm>
            <a:off x="1785240" y="31845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376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2821-F5BB-4A0C-92C1-96F8C5A8BD6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15" name=""/>
          <p:cNvCxnSpPr>
            <a:stCxn id="1411" idx="6"/>
            <a:endCxn id="1407" idx="2"/>
          </p:cNvCxnSpPr>
          <p:nvPr/>
        </p:nvCxnSpPr>
        <p:spPr>
          <a:xfrm flipV="1">
            <a:off x="3324240" y="2488680"/>
            <a:ext cx="1497600" cy="416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6" name=""/>
          <p:cNvCxnSpPr>
            <a:stCxn id="1410" idx="0"/>
            <a:endCxn id="1407" idx="4"/>
          </p:cNvCxnSpPr>
          <p:nvPr/>
        </p:nvCxnSpPr>
        <p:spPr>
          <a:xfrm flipV="1">
            <a:off x="5055840" y="2923920"/>
            <a:ext cx="346680" cy="189144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17" name=""/>
          <p:cNvCxnSpPr>
            <a:stCxn id="1410" idx="7"/>
            <a:endCxn id="1413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8" name=""/>
          <p:cNvCxnSpPr>
            <a:stCxn id="1413" idx="0"/>
            <a:endCxn id="1408" idx="3"/>
          </p:cNvCxnSpPr>
          <p:nvPr/>
        </p:nvCxnSpPr>
        <p:spPr>
          <a:xfrm flipV="1">
            <a:off x="7294320" y="2517120"/>
            <a:ext cx="726120" cy="6469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19" name=""/>
          <p:cNvCxnSpPr>
            <a:stCxn id="1407" idx="6"/>
            <a:endCxn id="1408" idx="2"/>
          </p:cNvCxnSpPr>
          <p:nvPr/>
        </p:nvCxnSpPr>
        <p:spPr>
          <a:xfrm flipV="1">
            <a:off x="5981760" y="2204640"/>
            <a:ext cx="1854720" cy="284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0" name=""/>
          <p:cNvCxnSpPr>
            <a:stCxn id="1414" idx="6"/>
            <a:endCxn id="1412" idx="2"/>
          </p:cNvCxnSpPr>
          <p:nvPr/>
        </p:nvCxnSpPr>
        <p:spPr>
          <a:xfrm>
            <a:off x="1131840" y="4573440"/>
            <a:ext cx="1224720" cy="416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21" name=""/>
          <p:cNvCxnSpPr>
            <a:stCxn id="1411" idx="4"/>
            <a:endCxn id="1412" idx="0"/>
          </p:cNvCxnSpPr>
          <p:nvPr/>
        </p:nvCxnSpPr>
        <p:spPr>
          <a:xfrm>
            <a:off x="2754000" y="3331800"/>
            <a:ext cx="183240" cy="12214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stCxn id="1413" idx="4"/>
            <a:endCxn id="1409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23" name=""/>
          <p:cNvCxnSpPr>
            <a:endCxn id="1410" idx="6"/>
          </p:cNvCxnSpPr>
          <p:nvPr/>
        </p:nvCxnSpPr>
        <p:spPr>
          <a:xfrm flipH="1" flipV="1">
            <a:off x="5635440" y="5250600"/>
            <a:ext cx="1915200" cy="4359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24" name=""/>
          <p:cNvCxnSpPr>
            <a:stCxn id="1412" idx="6"/>
            <a:endCxn id="1410" idx="2"/>
          </p:cNvCxnSpPr>
          <p:nvPr/>
        </p:nvCxnSpPr>
        <p:spPr>
          <a:xfrm>
            <a:off x="3516120" y="4989240"/>
            <a:ext cx="959400" cy="262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25" name=""/>
          <p:cNvCxnSpPr>
            <a:stCxn id="1412" idx="7"/>
            <a:endCxn id="1407" idx="3"/>
          </p:cNvCxnSpPr>
          <p:nvPr/>
        </p:nvCxnSpPr>
        <p:spPr>
          <a:xfrm flipV="1">
            <a:off x="3332160" y="2801520"/>
            <a:ext cx="1674000" cy="1874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26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7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4" name=""/>
          <p:cNvSpPr/>
          <p:nvPr/>
        </p:nvSpPr>
        <p:spPr>
          <a:xfrm rot="4665000">
            <a:off x="2757240" y="3795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5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37" name=""/>
          <p:cNvCxnSpPr>
            <a:stCxn id="1408" idx="4"/>
            <a:endCxn id="1409" idx="7"/>
          </p:cNvCxnSpPr>
          <p:nvPr/>
        </p:nvCxnSpPr>
        <p:spPr>
          <a:xfrm>
            <a:off x="8416440" y="2639520"/>
            <a:ext cx="96120" cy="2731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38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"/>
          <p:cNvSpPr/>
          <p:nvPr/>
        </p:nvSpPr>
        <p:spPr>
          <a:xfrm>
            <a:off x="5577840" y="292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9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"/>
          <p:cNvSpPr/>
          <p:nvPr/>
        </p:nvSpPr>
        <p:spPr>
          <a:xfrm>
            <a:off x="2547360" y="5486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3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"/>
          <p:cNvSpPr/>
          <p:nvPr/>
        </p:nvSpPr>
        <p:spPr>
          <a:xfrm>
            <a:off x="1785240" y="31845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6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"/>
          <p:cNvSpPr/>
          <p:nvPr/>
        </p:nvSpPr>
        <p:spPr>
          <a:xfrm>
            <a:off x="185040" y="50896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49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719-5A68-401B-AB67-1CD437BE61A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56" name=""/>
          <p:cNvCxnSpPr>
            <a:stCxn id="1452" idx="6"/>
            <a:endCxn id="1448" idx="2"/>
          </p:cNvCxnSpPr>
          <p:nvPr/>
        </p:nvCxnSpPr>
        <p:spPr>
          <a:xfrm flipV="1">
            <a:off x="3333600" y="2488680"/>
            <a:ext cx="1488240" cy="416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7" name=""/>
          <p:cNvCxnSpPr>
            <a:stCxn id="1451" idx="0"/>
            <a:endCxn id="1448" idx="4"/>
          </p:cNvCxnSpPr>
          <p:nvPr/>
        </p:nvCxnSpPr>
        <p:spPr>
          <a:xfrm flipV="1">
            <a:off x="5055840" y="2923920"/>
            <a:ext cx="346680" cy="189144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58" name=""/>
          <p:cNvCxnSpPr>
            <a:stCxn id="1451" idx="7"/>
            <a:endCxn id="1454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9" name=""/>
          <p:cNvCxnSpPr>
            <a:stCxn id="1454" idx="0"/>
            <a:endCxn id="1449" idx="3"/>
          </p:cNvCxnSpPr>
          <p:nvPr/>
        </p:nvCxnSpPr>
        <p:spPr>
          <a:xfrm flipV="1">
            <a:off x="7294320" y="2517120"/>
            <a:ext cx="726120" cy="6469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60" name=""/>
          <p:cNvCxnSpPr>
            <a:stCxn id="1448" idx="6"/>
            <a:endCxn id="1449" idx="2"/>
          </p:cNvCxnSpPr>
          <p:nvPr/>
        </p:nvCxnSpPr>
        <p:spPr>
          <a:xfrm flipV="1">
            <a:off x="5981760" y="2204640"/>
            <a:ext cx="1854720" cy="284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61" name=""/>
          <p:cNvCxnSpPr>
            <a:stCxn id="1455" idx="6"/>
            <a:endCxn id="1453" idx="2"/>
          </p:cNvCxnSpPr>
          <p:nvPr/>
        </p:nvCxnSpPr>
        <p:spPr>
          <a:xfrm>
            <a:off x="1131840" y="4573440"/>
            <a:ext cx="1224720" cy="416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62" name=""/>
          <p:cNvCxnSpPr>
            <a:stCxn id="1452" idx="4"/>
            <a:endCxn id="1453" idx="0"/>
          </p:cNvCxnSpPr>
          <p:nvPr/>
        </p:nvCxnSpPr>
        <p:spPr>
          <a:xfrm>
            <a:off x="2754000" y="3341160"/>
            <a:ext cx="183240" cy="12121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63" name=""/>
          <p:cNvCxnSpPr>
            <a:stCxn id="1454" idx="4"/>
            <a:endCxn id="1450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64" name=""/>
          <p:cNvCxnSpPr>
            <a:endCxn id="1451" idx="6"/>
          </p:cNvCxnSpPr>
          <p:nvPr/>
        </p:nvCxnSpPr>
        <p:spPr>
          <a:xfrm flipH="1" flipV="1">
            <a:off x="5635440" y="5250600"/>
            <a:ext cx="1915200" cy="4359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65" name=""/>
          <p:cNvCxnSpPr>
            <a:stCxn id="1453" idx="6"/>
            <a:endCxn id="1451" idx="2"/>
          </p:cNvCxnSpPr>
          <p:nvPr/>
        </p:nvCxnSpPr>
        <p:spPr>
          <a:xfrm>
            <a:off x="3516120" y="4989240"/>
            <a:ext cx="959400" cy="262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66" name=""/>
          <p:cNvCxnSpPr>
            <a:stCxn id="1453" idx="7"/>
            <a:endCxn id="1448" idx="3"/>
          </p:cNvCxnSpPr>
          <p:nvPr/>
        </p:nvCxnSpPr>
        <p:spPr>
          <a:xfrm flipV="1">
            <a:off x="3332160" y="2801520"/>
            <a:ext cx="1674000" cy="1874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67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"/>
          <p:cNvSpPr/>
          <p:nvPr/>
        </p:nvSpPr>
        <p:spPr>
          <a:xfrm rot="4665000">
            <a:off x="2754360" y="3797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78" name=""/>
          <p:cNvCxnSpPr>
            <a:stCxn id="1449" idx="4"/>
            <a:endCxn id="1450" idx="7"/>
          </p:cNvCxnSpPr>
          <p:nvPr/>
        </p:nvCxnSpPr>
        <p:spPr>
          <a:xfrm>
            <a:off x="8416440" y="2639520"/>
            <a:ext cx="96120" cy="2731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79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2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"/>
          <p:cNvSpPr/>
          <p:nvPr/>
        </p:nvSpPr>
        <p:spPr>
          <a:xfrm>
            <a:off x="5577840" y="292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9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"/>
          <p:cNvSpPr/>
          <p:nvPr/>
        </p:nvSpPr>
        <p:spPr>
          <a:xfrm>
            <a:off x="2547360" y="5486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3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6" name=""/>
          <p:cNvSpPr/>
          <p:nvPr/>
        </p:nvSpPr>
        <p:spPr>
          <a:xfrm>
            <a:off x="1785240" y="31845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6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"/>
          <p:cNvSpPr/>
          <p:nvPr/>
        </p:nvSpPr>
        <p:spPr>
          <a:xfrm>
            <a:off x="185040" y="50896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49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B96C-0765-4EE1-B995-544B236EB4E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ateg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i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840200" y="20718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"/>
          <p:cNvSpPr/>
          <p:nvPr/>
        </p:nvSpPr>
        <p:spPr>
          <a:xfrm>
            <a:off x="7854840" y="17874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V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"/>
          <p:cNvSpPr/>
          <p:nvPr/>
        </p:nvSpPr>
        <p:spPr>
          <a:xfrm>
            <a:off x="7553160" y="5267160"/>
            <a:ext cx="112428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"/>
          <p:cNvSpPr/>
          <p:nvPr/>
        </p:nvSpPr>
        <p:spPr>
          <a:xfrm>
            <a:off x="4494240" y="483408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"/>
          <p:cNvSpPr/>
          <p:nvPr/>
        </p:nvSpPr>
        <p:spPr>
          <a:xfrm>
            <a:off x="2192400" y="2487600"/>
            <a:ext cx="1122480" cy="8352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"/>
          <p:cNvSpPr/>
          <p:nvPr/>
        </p:nvSpPr>
        <p:spPr>
          <a:xfrm>
            <a:off x="2374920" y="4572000"/>
            <a:ext cx="1122480" cy="8352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"/>
          <p:cNvSpPr/>
          <p:nvPr/>
        </p:nvSpPr>
        <p:spPr>
          <a:xfrm>
            <a:off x="6732720" y="3182760"/>
            <a:ext cx="1122120" cy="833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"/>
          <p:cNvSpPr/>
          <p:nvPr/>
        </p:nvSpPr>
        <p:spPr>
          <a:xfrm>
            <a:off x="0" y="4156200"/>
            <a:ext cx="1122480" cy="833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97" name=""/>
          <p:cNvCxnSpPr>
            <a:stCxn id="1493" idx="6"/>
            <a:endCxn id="1489" idx="2"/>
          </p:cNvCxnSpPr>
          <p:nvPr/>
        </p:nvCxnSpPr>
        <p:spPr>
          <a:xfrm flipV="1">
            <a:off x="3333600" y="2488680"/>
            <a:ext cx="1488240" cy="416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8" name=""/>
          <p:cNvCxnSpPr>
            <a:stCxn id="1492" idx="0"/>
            <a:endCxn id="1489" idx="4"/>
          </p:cNvCxnSpPr>
          <p:nvPr/>
        </p:nvCxnSpPr>
        <p:spPr>
          <a:xfrm flipV="1">
            <a:off x="5055840" y="2923920"/>
            <a:ext cx="346680" cy="189144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499" name=""/>
          <p:cNvCxnSpPr>
            <a:stCxn id="1492" idx="7"/>
            <a:endCxn id="1495" idx="3"/>
          </p:cNvCxnSpPr>
          <p:nvPr/>
        </p:nvCxnSpPr>
        <p:spPr>
          <a:xfrm flipV="1">
            <a:off x="5451120" y="3912840"/>
            <a:ext cx="1446840" cy="1024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00" name=""/>
          <p:cNvCxnSpPr>
            <a:stCxn id="1495" idx="0"/>
            <a:endCxn id="1490" idx="3"/>
          </p:cNvCxnSpPr>
          <p:nvPr/>
        </p:nvCxnSpPr>
        <p:spPr>
          <a:xfrm flipV="1">
            <a:off x="7294320" y="2517120"/>
            <a:ext cx="726120" cy="6469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501" name=""/>
          <p:cNvCxnSpPr>
            <a:stCxn id="1489" idx="6"/>
            <a:endCxn id="1490" idx="2"/>
          </p:cNvCxnSpPr>
          <p:nvPr/>
        </p:nvCxnSpPr>
        <p:spPr>
          <a:xfrm flipV="1">
            <a:off x="5981760" y="2204640"/>
            <a:ext cx="1854720" cy="284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02" name=""/>
          <p:cNvCxnSpPr>
            <a:stCxn id="1496" idx="6"/>
            <a:endCxn id="1494" idx="2"/>
          </p:cNvCxnSpPr>
          <p:nvPr/>
        </p:nvCxnSpPr>
        <p:spPr>
          <a:xfrm>
            <a:off x="1141200" y="4573440"/>
            <a:ext cx="1215000" cy="4168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503" name=""/>
          <p:cNvCxnSpPr>
            <a:stCxn id="1493" idx="4"/>
            <a:endCxn id="1494" idx="0"/>
          </p:cNvCxnSpPr>
          <p:nvPr/>
        </p:nvCxnSpPr>
        <p:spPr>
          <a:xfrm>
            <a:off x="2754000" y="3341160"/>
            <a:ext cx="183240" cy="121212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504" name=""/>
          <p:cNvCxnSpPr>
            <a:stCxn id="1495" idx="4"/>
            <a:endCxn id="1491" idx="0"/>
          </p:cNvCxnSpPr>
          <p:nvPr/>
        </p:nvCxnSpPr>
        <p:spPr>
          <a:xfrm>
            <a:off x="7294680" y="4035240"/>
            <a:ext cx="821520" cy="12135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505" name=""/>
          <p:cNvCxnSpPr>
            <a:endCxn id="1492" idx="6"/>
          </p:cNvCxnSpPr>
          <p:nvPr/>
        </p:nvCxnSpPr>
        <p:spPr>
          <a:xfrm flipH="1" flipV="1">
            <a:off x="5635440" y="5250600"/>
            <a:ext cx="1915200" cy="4359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506" name=""/>
          <p:cNvCxnSpPr>
            <a:stCxn id="1494" idx="6"/>
            <a:endCxn id="1492" idx="2"/>
          </p:cNvCxnSpPr>
          <p:nvPr/>
        </p:nvCxnSpPr>
        <p:spPr>
          <a:xfrm>
            <a:off x="3516120" y="4989240"/>
            <a:ext cx="959400" cy="262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507" name=""/>
          <p:cNvCxnSpPr>
            <a:stCxn id="1494" idx="7"/>
            <a:endCxn id="1489" idx="3"/>
          </p:cNvCxnSpPr>
          <p:nvPr/>
        </p:nvCxnSpPr>
        <p:spPr>
          <a:xfrm flipV="1">
            <a:off x="3332160" y="2801520"/>
            <a:ext cx="1674000" cy="1874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08" name=""/>
          <p:cNvSpPr/>
          <p:nvPr/>
        </p:nvSpPr>
        <p:spPr>
          <a:xfrm rot="21252600">
            <a:off x="6408720" y="17521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4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"/>
          <p:cNvSpPr/>
          <p:nvPr/>
        </p:nvSpPr>
        <p:spPr>
          <a:xfrm rot="16938000">
            <a:off x="4801320" y="32367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"/>
          <p:cNvSpPr/>
          <p:nvPr/>
        </p:nvSpPr>
        <p:spPr>
          <a:xfrm rot="20055000">
            <a:off x="5600880" y="3863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8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"/>
          <p:cNvSpPr/>
          <p:nvPr/>
        </p:nvSpPr>
        <p:spPr>
          <a:xfrm rot="19463400">
            <a:off x="3409920" y="34491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"/>
          <p:cNvSpPr/>
          <p:nvPr/>
        </p:nvSpPr>
        <p:spPr>
          <a:xfrm rot="20910600">
            <a:off x="3593160" y="2071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4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"/>
          <p:cNvSpPr/>
          <p:nvPr/>
        </p:nvSpPr>
        <p:spPr>
          <a:xfrm rot="2626200">
            <a:off x="7664040" y="4311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"/>
          <p:cNvSpPr/>
          <p:nvPr/>
        </p:nvSpPr>
        <p:spPr>
          <a:xfrm rot="565800">
            <a:off x="6330240" y="4824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"/>
          <p:cNvSpPr/>
          <p:nvPr/>
        </p:nvSpPr>
        <p:spPr>
          <a:xfrm rot="695400">
            <a:off x="3696840" y="4497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"/>
          <p:cNvSpPr/>
          <p:nvPr/>
        </p:nvSpPr>
        <p:spPr>
          <a:xfrm rot="4665000">
            <a:off x="2754360" y="3797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7" name=""/>
          <p:cNvSpPr/>
          <p:nvPr/>
        </p:nvSpPr>
        <p:spPr>
          <a:xfrm rot="832200">
            <a:off x="1476360" y="4114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"/>
          <p:cNvSpPr/>
          <p:nvPr/>
        </p:nvSpPr>
        <p:spPr>
          <a:xfrm rot="19708200">
            <a:off x="7194960" y="23317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19" name=""/>
          <p:cNvCxnSpPr>
            <a:stCxn id="1490" idx="4"/>
            <a:endCxn id="1491" idx="7"/>
          </p:cNvCxnSpPr>
          <p:nvPr/>
        </p:nvCxnSpPr>
        <p:spPr>
          <a:xfrm>
            <a:off x="8416440" y="2639520"/>
            <a:ext cx="96120" cy="2731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20" name=""/>
          <p:cNvSpPr/>
          <p:nvPr/>
        </p:nvSpPr>
        <p:spPr>
          <a:xfrm rot="5208000">
            <a:off x="8362800" y="35287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"/>
          <p:cNvSpPr/>
          <p:nvPr/>
        </p:nvSpPr>
        <p:spPr>
          <a:xfrm>
            <a:off x="4538160" y="58928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"/>
          <p:cNvSpPr/>
          <p:nvPr/>
        </p:nvSpPr>
        <p:spPr>
          <a:xfrm>
            <a:off x="6840000" y="40989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0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"/>
          <p:cNvSpPr/>
          <p:nvPr/>
        </p:nvSpPr>
        <p:spPr>
          <a:xfrm>
            <a:off x="83448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24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4" name=""/>
          <p:cNvSpPr/>
          <p:nvPr/>
        </p:nvSpPr>
        <p:spPr>
          <a:xfrm>
            <a:off x="5577840" y="292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19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"/>
          <p:cNvSpPr/>
          <p:nvPr/>
        </p:nvSpPr>
        <p:spPr>
          <a:xfrm>
            <a:off x="8226000" y="589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"/>
          <p:cNvSpPr/>
          <p:nvPr/>
        </p:nvSpPr>
        <p:spPr>
          <a:xfrm>
            <a:off x="2547360" y="5486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3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"/>
          <p:cNvSpPr/>
          <p:nvPr/>
        </p:nvSpPr>
        <p:spPr>
          <a:xfrm>
            <a:off x="1785240" y="31845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26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"/>
          <p:cNvSpPr/>
          <p:nvPr/>
        </p:nvSpPr>
        <p:spPr>
          <a:xfrm>
            <a:off x="185040" y="50896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49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19BD-DC9D-43EB-ACFF-E6AFC5006C9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Osobine algoritm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obi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io najkraće putanje je takođe najkraća putanja (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Greedy Algorith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obi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i drvo najkraćih putanja od početnog čvora do svih drugih čvoroava (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ingle source shortest pa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obina 3: algoritam radi samo ako su težine grana pozitivn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727-9566-43DC-A1D8-1E4CE4B7F6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Osobine algoritm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532" name=""/>
          <p:cNvGrpSpPr/>
          <p:nvPr/>
        </p:nvGrpSpPr>
        <p:grpSpPr>
          <a:xfrm>
            <a:off x="533520" y="2179440"/>
            <a:ext cx="7489800" cy="2949480"/>
            <a:chOff x="533520" y="2179440"/>
            <a:chExt cx="7489800" cy="2949480"/>
          </a:xfrm>
        </p:grpSpPr>
        <p:sp>
          <p:nvSpPr>
            <p:cNvPr id="1533" name=""/>
            <p:cNvSpPr/>
            <p:nvPr/>
          </p:nvSpPr>
          <p:spPr>
            <a:xfrm>
              <a:off x="4572000" y="2384280"/>
              <a:ext cx="93672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R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086600" y="2228760"/>
              <a:ext cx="93672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V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835680" y="4136760"/>
              <a:ext cx="93672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C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282920" y="3898800"/>
              <a:ext cx="93672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FW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362320" y="2612880"/>
              <a:ext cx="93636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F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514600" y="3755880"/>
              <a:ext cx="93672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149880" y="2993760"/>
              <a:ext cx="93672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G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3527280"/>
              <a:ext cx="936360" cy="45720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N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541" name=""/>
            <p:cNvCxnSpPr>
              <a:stCxn id="1537" idx="6"/>
              <a:endCxn id="1533" idx="2"/>
            </p:cNvCxnSpPr>
            <p:nvPr/>
          </p:nvCxnSpPr>
          <p:spPr>
            <a:xfrm flipV="1">
              <a:off x="3317400" y="2612160"/>
              <a:ext cx="1235880" cy="229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42" name=""/>
            <p:cNvCxnSpPr/>
            <p:nvPr/>
          </p:nvCxnSpPr>
          <p:spPr>
            <a:xfrm flipV="1">
              <a:off x="4750920" y="2840760"/>
              <a:ext cx="289440" cy="101988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43" name=""/>
            <p:cNvCxnSpPr>
              <a:stCxn id="1536" idx="7"/>
              <a:endCxn id="1539" idx="3"/>
            </p:cNvCxnSpPr>
            <p:nvPr/>
          </p:nvCxnSpPr>
          <p:spPr>
            <a:xfrm flipV="1">
              <a:off x="5082840" y="3403080"/>
              <a:ext cx="1204200" cy="543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44" name=""/>
            <p:cNvCxnSpPr>
              <a:stCxn id="1539" idx="0"/>
              <a:endCxn id="1534" idx="3"/>
            </p:cNvCxnSpPr>
            <p:nvPr/>
          </p:nvCxnSpPr>
          <p:spPr>
            <a:xfrm flipV="1">
              <a:off x="6618240" y="2637360"/>
              <a:ext cx="605520" cy="33732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45" name=""/>
            <p:cNvCxnSpPr>
              <a:stCxn id="1533" idx="6"/>
              <a:endCxn id="1534" idx="2"/>
            </p:cNvCxnSpPr>
            <p:nvPr/>
          </p:nvCxnSpPr>
          <p:spPr>
            <a:xfrm flipV="1">
              <a:off x="5527440" y="2457360"/>
              <a:ext cx="1540440" cy="155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46" name=""/>
            <p:cNvCxnSpPr/>
            <p:nvPr/>
          </p:nvCxnSpPr>
          <p:spPr>
            <a:xfrm>
              <a:off x="1488960" y="3736440"/>
              <a:ext cx="1007280" cy="22932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47" name=""/>
            <p:cNvCxnSpPr/>
            <p:nvPr/>
          </p:nvCxnSpPr>
          <p:spPr>
            <a:xfrm>
              <a:off x="2819160" y="3050640"/>
              <a:ext cx="153000" cy="64836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48" name=""/>
            <p:cNvCxnSpPr/>
            <p:nvPr/>
          </p:nvCxnSpPr>
          <p:spPr>
            <a:xfrm>
              <a:off x="6629040" y="3450600"/>
              <a:ext cx="686520" cy="64836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49" name=""/>
            <p:cNvCxnSpPr/>
            <p:nvPr/>
          </p:nvCxnSpPr>
          <p:spPr>
            <a:xfrm flipH="1" flipV="1">
              <a:off x="5238360" y="4107600"/>
              <a:ext cx="1597680" cy="23868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50" name=""/>
            <p:cNvCxnSpPr/>
            <p:nvPr/>
          </p:nvCxnSpPr>
          <p:spPr>
            <a:xfrm>
              <a:off x="3470040" y="3965040"/>
              <a:ext cx="794520" cy="14364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</a:ln>
          </p:spPr>
        </p:cxnSp>
        <p:cxnSp>
          <p:nvCxnSpPr>
            <p:cNvPr id="1551" name=""/>
            <p:cNvCxnSpPr>
              <a:stCxn id="1538" idx="7"/>
              <a:endCxn id="1533" idx="3"/>
            </p:cNvCxnSpPr>
            <p:nvPr/>
          </p:nvCxnSpPr>
          <p:spPr>
            <a:xfrm flipV="1">
              <a:off x="3314520" y="2792880"/>
              <a:ext cx="1394280" cy="1010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1552" name=""/>
            <p:cNvSpPr/>
            <p:nvPr/>
          </p:nvSpPr>
          <p:spPr>
            <a:xfrm rot="21252600">
              <a:off x="5842800" y="22096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849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3" name=""/>
            <p:cNvSpPr/>
            <p:nvPr/>
          </p:nvSpPr>
          <p:spPr>
            <a:xfrm rot="16938000">
              <a:off x="4521960" y="29412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80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4" name=""/>
            <p:cNvSpPr/>
            <p:nvPr/>
          </p:nvSpPr>
          <p:spPr>
            <a:xfrm rot="20055000">
              <a:off x="5192640" y="33584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387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"/>
            <p:cNvSpPr/>
            <p:nvPr/>
          </p:nvSpPr>
          <p:spPr>
            <a:xfrm rot="19463400">
              <a:off x="3379680" y="312048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74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20910600">
              <a:off x="3490920" y="238392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84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7" name=""/>
            <p:cNvSpPr/>
            <p:nvPr/>
          </p:nvSpPr>
          <p:spPr>
            <a:xfrm rot="2626200">
              <a:off x="6786720" y="35870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99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565800">
              <a:off x="5731560" y="389196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12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695400">
              <a:off x="3531600" y="37112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23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0" name=""/>
            <p:cNvSpPr/>
            <p:nvPr/>
          </p:nvSpPr>
          <p:spPr>
            <a:xfrm rot="4665000">
              <a:off x="2754360" y="32479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37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1" name=""/>
            <p:cNvSpPr/>
            <p:nvPr/>
          </p:nvSpPr>
          <p:spPr>
            <a:xfrm rot="832200">
              <a:off x="1683720" y="352692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55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9708200">
              <a:off x="6544800" y="25110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4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563" name=""/>
            <p:cNvCxnSpPr>
              <a:stCxn id="1534" idx="4"/>
              <a:endCxn id="1535" idx="7"/>
            </p:cNvCxnSpPr>
            <p:nvPr/>
          </p:nvCxnSpPr>
          <p:spPr>
            <a:xfrm>
              <a:off x="7554600" y="2704680"/>
              <a:ext cx="81360" cy="1479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1564" name=""/>
            <p:cNvSpPr/>
            <p:nvPr/>
          </p:nvSpPr>
          <p:spPr>
            <a:xfrm rot="5208000">
              <a:off x="7418520" y="30960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30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054520" y="4760640"/>
              <a:ext cx="48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</a:rPr>
                <a:t>Primje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</a:rPr>
                <a:t>drvo najkraćih putanja iz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land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4C49-C4A0-4C37-8988-B6BA4DE8945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 I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jkst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n algoritam gradi drv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stoji putanja od svakog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vora do početnog čv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primjer, tražimo najkraće puteve od čvora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762120" y="5410080"/>
            <a:ext cx="7619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rijednosti na granama su cijene ili teži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rijednosti pored čvorova su ukupne tež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9" name=""/>
          <p:cNvGrpSpPr/>
          <p:nvPr/>
        </p:nvGrpSpPr>
        <p:grpSpPr>
          <a:xfrm>
            <a:off x="1066680" y="3200400"/>
            <a:ext cx="2133720" cy="2057400"/>
            <a:chOff x="1066680" y="3200400"/>
            <a:chExt cx="2133720" cy="2057400"/>
          </a:xfrm>
        </p:grpSpPr>
        <p:sp>
          <p:nvSpPr>
            <p:cNvPr id="1570" name=""/>
            <p:cNvSpPr/>
            <p:nvPr/>
          </p:nvSpPr>
          <p:spPr>
            <a:xfrm>
              <a:off x="1905120" y="3200400"/>
              <a:ext cx="38088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066680" y="4038480"/>
              <a:ext cx="38124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905120" y="4876920"/>
              <a:ext cx="38088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819520" y="4876920"/>
              <a:ext cx="38088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819520" y="4038480"/>
              <a:ext cx="38088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05120" y="4038480"/>
              <a:ext cx="38088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1371600" y="3504960"/>
              <a:ext cx="53352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057400" y="35812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flipV="1">
              <a:off x="2285640" y="3504960"/>
              <a:ext cx="60948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447920" y="42670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286000" y="426708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057400" y="44197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286000" y="50292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971800" y="44197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371600" y="35053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523880" y="38862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981080" y="35812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590920" y="35053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286000" y="38862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981080" y="44038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895480" y="44038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286000" y="46483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4800600" y="3048120"/>
            <a:ext cx="2362320" cy="2209680"/>
            <a:chOff x="4800600" y="3048120"/>
            <a:chExt cx="2362320" cy="2209680"/>
          </a:xfrm>
        </p:grpSpPr>
        <p:sp>
          <p:nvSpPr>
            <p:cNvPr id="1593" name=""/>
            <p:cNvSpPr/>
            <p:nvPr/>
          </p:nvSpPr>
          <p:spPr>
            <a:xfrm>
              <a:off x="5638680" y="3200400"/>
              <a:ext cx="38124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800600" y="4038480"/>
              <a:ext cx="38088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638680" y="4876920"/>
              <a:ext cx="38124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553080" y="4876920"/>
              <a:ext cx="38124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553080" y="4038480"/>
              <a:ext cx="38124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638680" y="4038480"/>
              <a:ext cx="38124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5105520" y="3504960"/>
              <a:ext cx="533160" cy="53316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791320" y="3581280"/>
              <a:ext cx="0" cy="45720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019920" y="4267080"/>
              <a:ext cx="533160" cy="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791320" y="4419720"/>
              <a:ext cx="0" cy="45720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019920" y="5029200"/>
              <a:ext cx="533160" cy="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943600" y="30481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791320" y="37339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858000" y="38098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867280" y="45720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781680" y="45720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800600" y="36576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401-8017-4A15-B920-CEE57026B75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 II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svaki čvor, čuva se sledeća informac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boolean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- da li nam je poznat najkraći put do tog čvora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na početku je tru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e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 samo za početni čvor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cc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dužina najkraćeg poznatog puta do datog čvora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(0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za početni čvor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cc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prethodnik na tom putu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na početku, nepoznat za sve čvorove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cc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goritam radi po fazama - u svakoj faz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od čvorova za koje nam nije poznata najkraća putanja, izabrati čvor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sa najmanjim do sada poznatim rastojanjem</a:t>
            </a:r>
            <a:endParaRPr b="0" lang="en-US" sz="1800" spc="-1" strike="noStrike">
              <a:solidFill>
                <a:srgbClr val="cc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postaviti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-ovo boolean polje na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cc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za sve čvorov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susjedne čvoru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, test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iramo da li je dužina poznatog puta veća od zbira dužine najkraćeg puta do v i rastojanja od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o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;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ako jeste, postavljamo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-ov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najkraći put na novu vrijednost a za prethodnika čvor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pr</a:t>
            </a:r>
            <a:r>
              <a:rPr b="0" lang="sr-Latn-CS" sz="1800" spc="-1" strike="noStrike">
                <a:solidFill>
                  <a:srgbClr val="cc0099"/>
                </a:solidFill>
                <a:latin typeface="Arial"/>
              </a:rPr>
              <a:t>oglašavamo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1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A9E-4D22-46FD-BF3F-27A30ED8276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 1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371600" y="2286000"/>
            <a:ext cx="6510600" cy="3063600"/>
            <a:chOff x="1371600" y="2286000"/>
            <a:chExt cx="6510600" cy="3063600"/>
          </a:xfrm>
        </p:grpSpPr>
        <p:sp>
          <p:nvSpPr>
            <p:cNvPr id="125" name=""/>
            <p:cNvSpPr/>
            <p:nvPr/>
          </p:nvSpPr>
          <p:spPr>
            <a:xfrm>
              <a:off x="1371600" y="2286000"/>
              <a:ext cx="6200640" cy="987480"/>
            </a:xfrm>
            <a:prstGeom prst="roundRect">
              <a:avLst>
                <a:gd name="adj" fmla="val 2608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71600" y="2287440"/>
              <a:ext cx="6200640" cy="984240"/>
            </a:xfrm>
            <a:prstGeom prst="roundRect">
              <a:avLst>
                <a:gd name="adj" fmla="val 25352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9720" y="2628720"/>
              <a:ext cx="15840" cy="4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68960" y="2628720"/>
              <a:ext cx="32040" cy="4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25560" y="2628720"/>
              <a:ext cx="5243400" cy="4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82560" y="4376520"/>
              <a:ext cx="5729400" cy="973080"/>
            </a:xfrm>
            <a:prstGeom prst="roundRect">
              <a:avLst>
                <a:gd name="adj" fmla="val 26472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82560" y="4378320"/>
              <a:ext cx="5729400" cy="969840"/>
            </a:xfrm>
            <a:prstGeom prst="roundRect">
              <a:avLst>
                <a:gd name="adj" fmla="val 25713"/>
              </a:avLst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40040" y="4862520"/>
              <a:ext cx="1584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68960" y="4862520"/>
              <a:ext cx="3204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55880" y="4862520"/>
              <a:ext cx="511308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35400" y="4633920"/>
              <a:ext cx="53640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35400" y="4635360"/>
              <a:ext cx="53640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0880" y="47638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DF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31880" y="4633920"/>
              <a:ext cx="53496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1880" y="4635360"/>
              <a:ext cx="53496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8680" y="47638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B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00760" y="4633920"/>
              <a:ext cx="51912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9320" y="4635360"/>
              <a:ext cx="52056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15520" y="4763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OR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40360" y="4633920"/>
              <a:ext cx="53496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38560" y="4635360"/>
              <a:ext cx="53676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88600" y="4763880"/>
              <a:ext cx="39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MI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43880" y="4633920"/>
              <a:ext cx="53640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43880" y="4635360"/>
              <a:ext cx="53640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92480" y="476388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SF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5800" y="4633920"/>
              <a:ext cx="51912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95800" y="4635360"/>
              <a:ext cx="51912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60600" y="47638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JF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92280" y="4633920"/>
              <a:ext cx="53496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90840" y="4635360"/>
              <a:ext cx="53640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07760" y="4763880"/>
              <a:ext cx="41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LA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21040" y="24717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21040" y="2473200"/>
              <a:ext cx="4554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36520" y="255744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DL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14720" y="2557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247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32000" y="27572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32000" y="30877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32000" y="27716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900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75000" y="2757240"/>
              <a:ext cx="1728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04840" y="2757240"/>
              <a:ext cx="4701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24080" y="2471760"/>
              <a:ext cx="4716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24080" y="24732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57200" y="255744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DL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17760" y="2557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335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35400" y="2757240"/>
              <a:ext cx="3312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35400" y="3087720"/>
              <a:ext cx="3312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35400" y="2771640"/>
              <a:ext cx="3312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0824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7984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24080" y="2757240"/>
              <a:ext cx="4557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67400" y="2471760"/>
              <a:ext cx="4557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67400" y="2473200"/>
              <a:ext cx="4557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8504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U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61080" y="2557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877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78720" y="2757240"/>
              <a:ext cx="3312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78720" y="3087720"/>
              <a:ext cx="3312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78720" y="2771640"/>
              <a:ext cx="3312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3572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2316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51560" y="2757240"/>
              <a:ext cx="4716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2600" y="2471760"/>
              <a:ext cx="4716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52600" y="24732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01560" y="2557440"/>
              <a:ext cx="19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NW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11800" y="25574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63560" y="27572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63560" y="30877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63560" y="27716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3676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2420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52600" y="2757240"/>
              <a:ext cx="4716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5120" y="24717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45120" y="2473200"/>
              <a:ext cx="4539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6096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37000" y="2557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523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56080" y="27572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56080" y="30877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56080" y="27716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11640" y="2757240"/>
              <a:ext cx="176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9908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29280" y="2757240"/>
              <a:ext cx="4698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95920" y="2471760"/>
              <a:ext cx="4554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95920" y="2473200"/>
              <a:ext cx="4554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1320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05800" y="25574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68160" y="2557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06880" y="27572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06880" y="30877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06880" y="27716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8008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5132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95920" y="2757240"/>
              <a:ext cx="4554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20000" y="24717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20000" y="2473200"/>
              <a:ext cx="4539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68600" y="2557440"/>
              <a:ext cx="17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TW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61560" y="25574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230960" y="27572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30960" y="30877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30960" y="27716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0416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7396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20000" y="2757240"/>
              <a:ext cx="4539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48160" y="2471760"/>
              <a:ext cx="4701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48160" y="24732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6400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U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57680" y="2557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120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59480" y="27572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59480" y="30877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59480" y="27716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3232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0248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48160" y="2757240"/>
              <a:ext cx="45432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73280" y="24717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73280" y="2473200"/>
              <a:ext cx="4539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2080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15200" y="25574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84600" y="27572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84600" y="30877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84600" y="27716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5744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2724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73280" y="2757240"/>
              <a:ext cx="4539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00760" y="2471760"/>
              <a:ext cx="4698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99320" y="2473200"/>
              <a:ext cx="47124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1660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08840" y="2557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903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10280" y="27572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10280" y="30877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10280" y="27716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83120" y="2757240"/>
              <a:ext cx="176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7056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00760" y="2757240"/>
              <a:ext cx="4698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76680" y="2471760"/>
              <a:ext cx="4698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76680" y="24732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60840" y="25574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52720" y="2557440"/>
              <a:ext cx="26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1387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87640" y="2757240"/>
              <a:ext cx="3204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87640" y="3087720"/>
              <a:ext cx="3204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87640" y="2771640"/>
              <a:ext cx="3204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60840" y="27572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46480" y="2757240"/>
              <a:ext cx="176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76680" y="2757240"/>
              <a:ext cx="4698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97040" y="443376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0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97040" y="443376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0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66720" y="3030480"/>
              <a:ext cx="177840" cy="14032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14800" y="447660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14800" y="447660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78040" y="3016080"/>
              <a:ext cx="2368440" cy="15033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71920" y="4419360"/>
              <a:ext cx="177840" cy="171720"/>
            </a:xfrm>
            <a:custGeom>
              <a:avLst/>
              <a:gdLst/>
              <a:ahLst/>
              <a:rect l="l" t="t" r="r" b="b"/>
              <a:pathLst>
                <a:path w="112" h="108">
                  <a:moveTo>
                    <a:pt x="82" y="27"/>
                  </a:moveTo>
                  <a:lnTo>
                    <a:pt x="112" y="45"/>
                  </a:lnTo>
                  <a:lnTo>
                    <a:pt x="0" y="108"/>
                  </a:lnTo>
                  <a:lnTo>
                    <a:pt x="61" y="0"/>
                  </a:lnTo>
                  <a:lnTo>
                    <a:pt x="82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71920" y="4419360"/>
              <a:ext cx="177840" cy="171720"/>
            </a:xfrm>
            <a:custGeom>
              <a:avLst/>
              <a:gdLst/>
              <a:ahLst/>
              <a:rect l="l" t="t" r="r" b="b"/>
              <a:pathLst>
                <a:path w="112" h="108">
                  <a:moveTo>
                    <a:pt x="82" y="27"/>
                  </a:moveTo>
                  <a:lnTo>
                    <a:pt x="112" y="45"/>
                  </a:lnTo>
                  <a:lnTo>
                    <a:pt x="0" y="108"/>
                  </a:lnTo>
                  <a:lnTo>
                    <a:pt x="61" y="0"/>
                  </a:lnTo>
                  <a:lnTo>
                    <a:pt x="82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617720" y="3016080"/>
              <a:ext cx="1428840" cy="14320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45000" y="4433760"/>
              <a:ext cx="13032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1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45000" y="4433760"/>
              <a:ext cx="13032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1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525640" y="3001680"/>
              <a:ext cx="730440" cy="14464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35400" y="44337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31" y="18"/>
                  </a:moveTo>
                  <a:lnTo>
                    <a:pt x="72" y="0"/>
                  </a:lnTo>
                  <a:lnTo>
                    <a:pt x="82" y="117"/>
                  </a:lnTo>
                  <a:lnTo>
                    <a:pt x="0" y="27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35400" y="44337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31" y="18"/>
                  </a:moveTo>
                  <a:lnTo>
                    <a:pt x="72" y="0"/>
                  </a:lnTo>
                  <a:lnTo>
                    <a:pt x="82" y="117"/>
                  </a:lnTo>
                  <a:lnTo>
                    <a:pt x="0" y="27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85960" y="3016080"/>
              <a:ext cx="698760" cy="14320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70120" y="4405320"/>
              <a:ext cx="11448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70120" y="4405320"/>
              <a:ext cx="11448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735280" y="3001680"/>
              <a:ext cx="195120" cy="14036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74880" y="44053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3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74880" y="44053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3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24200" y="3016080"/>
              <a:ext cx="21096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10040" y="456228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10040" y="456228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46480" y="3016080"/>
              <a:ext cx="2595240" cy="15890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49520" y="440532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9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49520" y="440532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9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38560" y="3016080"/>
              <a:ext cx="25884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86280" y="447660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86280" y="447660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65360" y="3016080"/>
              <a:ext cx="2352960" cy="15033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25760" y="4405320"/>
              <a:ext cx="11304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1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18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25760" y="4405320"/>
              <a:ext cx="11304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1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18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7000" y="3016080"/>
              <a:ext cx="56808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95680" y="44053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1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95680" y="44053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1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3660840" y="3016080"/>
              <a:ext cx="35712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73720" y="4433760"/>
              <a:ext cx="96840" cy="185760"/>
            </a:xfrm>
            <a:custGeom>
              <a:avLst/>
              <a:gdLst/>
              <a:ahLst/>
              <a:rect l="l" t="t" r="r" b="b"/>
              <a:pathLst>
                <a:path w="61" h="117">
                  <a:moveTo>
                    <a:pt x="30" y="9"/>
                  </a:moveTo>
                  <a:lnTo>
                    <a:pt x="61" y="9"/>
                  </a:lnTo>
                  <a:lnTo>
                    <a:pt x="10" y="117"/>
                  </a:lnTo>
                  <a:lnTo>
                    <a:pt x="0" y="0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73720" y="4433760"/>
              <a:ext cx="96840" cy="185760"/>
            </a:xfrm>
            <a:custGeom>
              <a:avLst/>
              <a:gdLst/>
              <a:ahLst/>
              <a:rect l="l" t="t" r="r" b="b"/>
              <a:pathLst>
                <a:path w="61" h="117">
                  <a:moveTo>
                    <a:pt x="30" y="9"/>
                  </a:moveTo>
                  <a:lnTo>
                    <a:pt x="61" y="9"/>
                  </a:lnTo>
                  <a:lnTo>
                    <a:pt x="10" y="117"/>
                  </a:lnTo>
                  <a:lnTo>
                    <a:pt x="0" y="0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321240" y="3016080"/>
              <a:ext cx="260280" cy="14176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22840" y="453384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102" y="27"/>
                  </a:moveTo>
                  <a:lnTo>
                    <a:pt x="123" y="54"/>
                  </a:lnTo>
                  <a:lnTo>
                    <a:pt x="0" y="90"/>
                  </a:lnTo>
                  <a:lnTo>
                    <a:pt x="82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22840" y="453384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102" y="27"/>
                  </a:moveTo>
                  <a:lnTo>
                    <a:pt x="123" y="54"/>
                  </a:lnTo>
                  <a:lnTo>
                    <a:pt x="0" y="90"/>
                  </a:lnTo>
                  <a:lnTo>
                    <a:pt x="82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984480" y="3030480"/>
              <a:ext cx="2857680" cy="154620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30400" y="453384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18"/>
                  </a:moveTo>
                  <a:lnTo>
                    <a:pt x="122" y="45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30400" y="453384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18"/>
                  </a:moveTo>
                  <a:lnTo>
                    <a:pt x="122" y="45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092400" y="3016080"/>
              <a:ext cx="2386080" cy="154620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46920" y="44053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0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46920" y="44053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0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89440" y="3016080"/>
              <a:ext cx="40500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40360" y="4433760"/>
              <a:ext cx="128520" cy="185760"/>
            </a:xfrm>
            <a:custGeom>
              <a:avLst/>
              <a:gdLst/>
              <a:ahLst/>
              <a:rect l="l" t="t" r="r" b="b"/>
              <a:pathLst>
                <a:path w="81" h="117">
                  <a:moveTo>
                    <a:pt x="30" y="18"/>
                  </a:moveTo>
                  <a:lnTo>
                    <a:pt x="61" y="0"/>
                  </a:lnTo>
                  <a:lnTo>
                    <a:pt x="81" y="117"/>
                  </a:lnTo>
                  <a:lnTo>
                    <a:pt x="0" y="27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40360" y="4433760"/>
              <a:ext cx="128520" cy="185760"/>
            </a:xfrm>
            <a:custGeom>
              <a:avLst/>
              <a:gdLst/>
              <a:ahLst/>
              <a:rect l="l" t="t" r="r" b="b"/>
              <a:pathLst>
                <a:path w="81" h="117">
                  <a:moveTo>
                    <a:pt x="30" y="18"/>
                  </a:moveTo>
                  <a:lnTo>
                    <a:pt x="61" y="0"/>
                  </a:lnTo>
                  <a:lnTo>
                    <a:pt x="81" y="117"/>
                  </a:lnTo>
                  <a:lnTo>
                    <a:pt x="0" y="27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57800" y="3016080"/>
              <a:ext cx="730080" cy="14320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41840" y="44337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0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41840" y="44337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0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3822840" y="3030480"/>
              <a:ext cx="761760" cy="14176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02360" y="44053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0"/>
                  </a:lnTo>
                  <a:lnTo>
                    <a:pt x="61" y="108"/>
                  </a:lnTo>
                  <a:lnTo>
                    <a:pt x="0" y="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02360" y="44053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0"/>
                  </a:lnTo>
                  <a:lnTo>
                    <a:pt x="61" y="108"/>
                  </a:lnTo>
                  <a:lnTo>
                    <a:pt x="0" y="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10040" y="3016080"/>
              <a:ext cx="34128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49400" y="4448160"/>
              <a:ext cx="177840" cy="14292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92" y="18"/>
                  </a:moveTo>
                  <a:lnTo>
                    <a:pt x="112" y="45"/>
                  </a:lnTo>
                  <a:lnTo>
                    <a:pt x="0" y="90"/>
                  </a:lnTo>
                  <a:lnTo>
                    <a:pt x="71" y="0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49400" y="4448160"/>
              <a:ext cx="177840" cy="14292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92" y="18"/>
                  </a:moveTo>
                  <a:lnTo>
                    <a:pt x="112" y="45"/>
                  </a:lnTo>
                  <a:lnTo>
                    <a:pt x="0" y="90"/>
                  </a:lnTo>
                  <a:lnTo>
                    <a:pt x="71" y="0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011400" y="2987640"/>
              <a:ext cx="2175120" cy="14889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02240" y="447660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27"/>
                  </a:moveTo>
                  <a:lnTo>
                    <a:pt x="122" y="54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02240" y="447660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27"/>
                  </a:moveTo>
                  <a:lnTo>
                    <a:pt x="122" y="54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763880" y="3016080"/>
              <a:ext cx="2369880" cy="15033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04160" y="44053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0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04160" y="44053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0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051680" y="3016080"/>
              <a:ext cx="32544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95720" y="25700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43440" y="46274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6095880" y="1676520"/>
            <a:ext cx="2514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 = O(n+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16AC-218B-448E-8210-B29812FD4A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 III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 podatka za svaki čvo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li postoji najkraći put (stavljamo +), najkraći put do sada i prethodnik čvora u najkraćem pu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4" name=""/>
          <p:cNvGrpSpPr/>
          <p:nvPr/>
        </p:nvGrpSpPr>
        <p:grpSpPr>
          <a:xfrm>
            <a:off x="304920" y="2286000"/>
            <a:ext cx="1904400" cy="1828440"/>
            <a:chOff x="304920" y="2286000"/>
            <a:chExt cx="1904400" cy="1828440"/>
          </a:xfrm>
        </p:grpSpPr>
        <p:sp>
          <p:nvSpPr>
            <p:cNvPr id="1615" name=""/>
            <p:cNvSpPr/>
            <p:nvPr/>
          </p:nvSpPr>
          <p:spPr>
            <a:xfrm>
              <a:off x="1053360" y="2286000"/>
              <a:ext cx="339840" cy="338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04920" y="3030840"/>
              <a:ext cx="340200" cy="338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053360" y="3776040"/>
              <a:ext cx="339840" cy="338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869480" y="3776040"/>
              <a:ext cx="339840" cy="338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869480" y="3030840"/>
              <a:ext cx="339840" cy="338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053360" y="3030840"/>
              <a:ext cx="339840" cy="338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577080" y="2556720"/>
              <a:ext cx="476280" cy="47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189080" y="2624400"/>
              <a:ext cx="0" cy="40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 flipV="1">
              <a:off x="1392840" y="2556720"/>
              <a:ext cx="543960" cy="47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45120" y="3233880"/>
              <a:ext cx="40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393200" y="3233880"/>
              <a:ext cx="476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189080" y="3369600"/>
              <a:ext cx="0" cy="40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393200" y="3911400"/>
              <a:ext cx="476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005560" y="3369600"/>
              <a:ext cx="0" cy="40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77080" y="255960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12800" y="289548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121040" y="262296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665360" y="2559600"/>
              <a:ext cx="2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393200" y="289548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121040" y="335556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937160" y="335556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393200" y="357300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37" name=""/>
          <p:cNvSpPr/>
          <p:nvPr/>
        </p:nvSpPr>
        <p:spPr>
          <a:xfrm>
            <a:off x="2819520" y="2590920"/>
            <a:ext cx="838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Verdana"/>
              </a:rPr>
              <a:t>čv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"/>
          <p:cNvSpPr/>
          <p:nvPr/>
        </p:nvSpPr>
        <p:spPr>
          <a:xfrm>
            <a:off x="3581280" y="2590920"/>
            <a:ext cx="9144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Verdana"/>
              </a:rPr>
              <a:t>poc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"/>
          <p:cNvSpPr/>
          <p:nvPr/>
        </p:nvSpPr>
        <p:spPr>
          <a:xfrm>
            <a:off x="4495680" y="2590920"/>
            <a:ext cx="8384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Verdana"/>
              </a:rPr>
              <a:t>3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5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0" name=""/>
          <p:cNvSpPr/>
          <p:nvPr/>
        </p:nvSpPr>
        <p:spPr>
          <a:xfrm>
            <a:off x="5105520" y="2590920"/>
            <a:ext cx="838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Verdana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1" name=""/>
          <p:cNvSpPr/>
          <p:nvPr/>
        </p:nvSpPr>
        <p:spPr>
          <a:xfrm>
            <a:off x="5867280" y="2590920"/>
            <a:ext cx="8384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3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Verdana"/>
              </a:rPr>
              <a:t>6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8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2" name=""/>
          <p:cNvSpPr/>
          <p:nvPr/>
        </p:nvSpPr>
        <p:spPr>
          <a:xfrm>
            <a:off x="6553080" y="2590920"/>
            <a:ext cx="8384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3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4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8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11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3" name=""/>
          <p:cNvSpPr/>
          <p:nvPr/>
        </p:nvSpPr>
        <p:spPr>
          <a:xfrm>
            <a:off x="7238880" y="2590920"/>
            <a:ext cx="8384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3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4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6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ff"/>
                </a:solidFill>
                <a:uFillTx/>
                <a:latin typeface="Verdana"/>
              </a:rPr>
              <a:t>9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4" name=""/>
          <p:cNvSpPr/>
          <p:nvPr/>
        </p:nvSpPr>
        <p:spPr>
          <a:xfrm>
            <a:off x="7924680" y="2590920"/>
            <a:ext cx="8384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3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0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4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6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+8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609480" y="4267080"/>
            <a:ext cx="2176560" cy="1905120"/>
            <a:chOff x="609480" y="4267080"/>
            <a:chExt cx="2176560" cy="1905120"/>
          </a:xfrm>
        </p:grpSpPr>
        <p:sp>
          <p:nvSpPr>
            <p:cNvPr id="1646" name=""/>
            <p:cNvSpPr/>
            <p:nvPr/>
          </p:nvSpPr>
          <p:spPr>
            <a:xfrm>
              <a:off x="1433520" y="4267080"/>
              <a:ext cx="341280" cy="352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85800" y="5043600"/>
              <a:ext cx="339840" cy="352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433520" y="5819760"/>
              <a:ext cx="341280" cy="352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51080" y="5819760"/>
              <a:ext cx="339840" cy="352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251080" y="5043600"/>
              <a:ext cx="339840" cy="352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433520" y="5043600"/>
              <a:ext cx="341280" cy="352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957240" y="4549680"/>
              <a:ext cx="476280" cy="49392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569960" y="4619520"/>
              <a:ext cx="0" cy="42408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774800" y="5254560"/>
              <a:ext cx="476280" cy="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69960" y="5396040"/>
              <a:ext cx="0" cy="42372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774800" y="5961240"/>
              <a:ext cx="476280" cy="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752480" y="4267080"/>
              <a:ext cx="27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600200" y="4724280"/>
              <a:ext cx="27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514600" y="4800600"/>
              <a:ext cx="2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676520" y="5562720"/>
              <a:ext cx="27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438280" y="5562720"/>
              <a:ext cx="2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09480" y="4724280"/>
              <a:ext cx="27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FF3-9E9D-4D32-9C13-0520F1208D4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Najkraće putanje između svih čvorov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lgorit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4631-BD21-4D03-9B20-780223C23DB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/>
          </p:nvPr>
        </p:nvSpPr>
        <p:spPr>
          <a:xfrm>
            <a:off x="152280" y="1523520"/>
            <a:ext cx="341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 poziv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jkstr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in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m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99"/>
                </a:solidFill>
                <a:latin typeface="Arial"/>
              </a:rPr>
              <a:t>O(n(n+m)log n)</a:t>
            </a:r>
            <a:endParaRPr b="0" lang="en-US" sz="1600" spc="-1" strike="noStrike">
              <a:solidFill>
                <a:srgbClr val="cc0099"/>
              </a:solidFill>
              <a:latin typeface="Arial"/>
            </a:endParaRPr>
          </a:p>
        </p:txBody>
      </p:sp>
      <p:pic>
        <p:nvPicPr>
          <p:cNvPr id="1666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1771560" cy="3679920"/>
          </a:xfrm>
          <a:prstGeom prst="rect">
            <a:avLst/>
          </a:prstGeom>
          <a:ln w="0">
            <a:noFill/>
          </a:ln>
        </p:spPr>
      </p:pic>
      <p:grpSp>
        <p:nvGrpSpPr>
          <p:cNvPr id="1667" name=""/>
          <p:cNvGrpSpPr/>
          <p:nvPr/>
        </p:nvGrpSpPr>
        <p:grpSpPr>
          <a:xfrm>
            <a:off x="3200400" y="1371600"/>
            <a:ext cx="4343400" cy="2133720"/>
            <a:chOff x="3200400" y="1371600"/>
            <a:chExt cx="4343400" cy="2133720"/>
          </a:xfrm>
        </p:grpSpPr>
        <p:sp>
          <p:nvSpPr>
            <p:cNvPr id="1668" name=""/>
            <p:cNvSpPr/>
            <p:nvPr/>
          </p:nvSpPr>
          <p:spPr>
            <a:xfrm>
              <a:off x="3886200" y="1600200"/>
              <a:ext cx="3429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O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5313e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do </a:t>
              </a:r>
              <a:r>
                <a:rPr b="0" lang="en-US" sz="2400" spc="-1" strike="noStrike">
                  <a:solidFill>
                    <a:srgbClr val="f5313e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mož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rže stići možda putujući od </a:t>
              </a:r>
              <a:r>
                <a:rPr b="0" lang="en-US" sz="2400" spc="-1" strike="noStrike">
                  <a:solidFill>
                    <a:srgbClr val="f5313e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5313e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a zatim od </a:t>
              </a:r>
              <a:r>
                <a:rPr b="0" lang="en-US" sz="2400" spc="-1" strike="noStrike">
                  <a:solidFill>
                    <a:srgbClr val="f5313e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5313e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200400" y="1371600"/>
              <a:ext cx="4343400" cy="2133720"/>
            </a:xfrm>
            <a:prstGeom prst="cloudCallout">
              <a:avLst>
                <a:gd name="adj1" fmla="val -46273"/>
                <a:gd name="adj2" fmla="val 7410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70" name=""/>
          <p:cNvSpPr/>
          <p:nvPr/>
        </p:nvSpPr>
        <p:spPr>
          <a:xfrm>
            <a:off x="4876920" y="4038480"/>
            <a:ext cx="4114800" cy="20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oristit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i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čk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grami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ranj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Flo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o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gorit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Svi parovi najkraćih putev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07F0-5C6F-4CAF-B40F-208ED316B6D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/>
          </p:nvPr>
        </p:nvSpPr>
        <p:spPr>
          <a:xfrm>
            <a:off x="696600" y="1523880"/>
            <a:ext cx="7304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Ide</a:t>
            </a:r>
            <a:r>
              <a:rPr b="0" lang="sr-Latn-CS" sz="2400" spc="-1" strike="noStrike" u="sng">
                <a:solidFill>
                  <a:srgbClr val="3333cc"/>
                </a:solidFill>
                <a:uFillTx/>
                <a:latin typeface="Arial"/>
              </a:rPr>
              <a:t>j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a </a:t>
            </a:r>
            <a:r>
              <a:rPr b="0" lang="sr-Latn-CS" sz="2400" spc="-1" strike="noStrike" u="sng">
                <a:solidFill>
                  <a:srgbClr val="3333cc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risati čvorove brojevim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2, …,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Ide</a:t>
            </a:r>
            <a:r>
              <a:rPr b="0" lang="sr-Latn-CS" sz="2400" spc="-1" strike="noStrike" u="sng">
                <a:solidFill>
                  <a:srgbClr val="3333cc"/>
                </a:solidFill>
                <a:uFillTx/>
                <a:latin typeface="Arial"/>
              </a:rPr>
              <a:t>j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a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jkraća putanja od čv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 čvo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z prolaska kroz bilo koji drugi č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ght(edge(i,j)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0099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e</a:t>
            </a:r>
            <a:r>
              <a:rPr b="0" lang="sr-Latn-CS" sz="2400" spc="-1" strike="noStrike">
                <a:solidFill>
                  <a:srgbClr val="cc0099"/>
                </a:solidFill>
                <a:latin typeface="Arial"/>
              </a:rPr>
              <a:t>ka to bude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D</a:t>
            </a:r>
            <a:r>
              <a:rPr b="1" lang="en-US" sz="2400" spc="-1" strike="noStrike" baseline="30000">
                <a:solidFill>
                  <a:srgbClr val="cc0099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(i,j)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Ide</a:t>
            </a:r>
            <a:r>
              <a:rPr b="0" lang="sr-Latn-CS" sz="2400" spc="-1" strike="noStrike" u="sng">
                <a:solidFill>
                  <a:srgbClr val="3333cc"/>
                </a:solidFill>
                <a:uFillTx/>
                <a:latin typeface="Arial"/>
              </a:rPr>
              <a:t>j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a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,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jkraća putanja između čvo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ja prolazi kroz čvoro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, …, k, as intermediate vertices, 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da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,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ješenje načeg probl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3" name="" descr=""/>
          <p:cNvPicPr/>
          <p:nvPr/>
        </p:nvPicPr>
        <p:blipFill>
          <a:blip r:embed="rId1"/>
          <a:stretch/>
        </p:blipFill>
        <p:spPr>
          <a:xfrm>
            <a:off x="7758000" y="152280"/>
            <a:ext cx="1100160" cy="2286000"/>
          </a:xfrm>
          <a:prstGeom prst="rect">
            <a:avLst/>
          </a:prstGeom>
          <a:ln w="0">
            <a:noFill/>
          </a:ln>
        </p:spPr>
      </p:pic>
      <p:sp>
        <p:nvSpPr>
          <p:cNvPr id="1674" name="PlaceHolder 2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Svi parovi najkraćih putev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4AF2-1123-47D0-B469-A2047A22756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3174840" y="2049480"/>
            <a:ext cx="11160" cy="4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"/>
          <p:cNvSpPr/>
          <p:nvPr/>
        </p:nvSpPr>
        <p:spPr>
          <a:xfrm>
            <a:off x="4194000" y="2657520"/>
            <a:ext cx="500400" cy="458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"/>
          <p:cNvSpPr/>
          <p:nvPr/>
        </p:nvSpPr>
        <p:spPr>
          <a:xfrm>
            <a:off x="5978520" y="2284560"/>
            <a:ext cx="498600" cy="458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"/>
          <p:cNvSpPr/>
          <p:nvPr/>
        </p:nvSpPr>
        <p:spPr>
          <a:xfrm>
            <a:off x="2819520" y="1752480"/>
            <a:ext cx="500040" cy="460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79" name=""/>
          <p:cNvCxnSpPr>
            <a:stCxn id="1678" idx="4"/>
            <a:endCxn id="1676" idx="1"/>
          </p:cNvCxnSpPr>
          <p:nvPr/>
        </p:nvCxnSpPr>
        <p:spPr>
          <a:xfrm flipH="1" rot="16200000">
            <a:off x="3430800" y="1869840"/>
            <a:ext cx="473760" cy="1197360"/>
          </a:xfrm>
          <a:prstGeom prst="curvedConnector5">
            <a:avLst>
              <a:gd name="adj1" fmla="val 42889"/>
              <a:gd name="adj2" fmla="val 49984"/>
              <a:gd name="adj3" fmla="val 4288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0" name=""/>
          <p:cNvCxnSpPr>
            <a:stCxn id="1676" idx="7"/>
            <a:endCxn id="1677" idx="3"/>
          </p:cNvCxnSpPr>
          <p:nvPr/>
        </p:nvCxnSpPr>
        <p:spPr>
          <a:xfrm flipH="1" flipV="1" rot="5400000">
            <a:off x="5330880" y="1985040"/>
            <a:ext cx="10080" cy="1430640"/>
          </a:xfrm>
          <a:prstGeom prst="curvedConnector5">
            <a:avLst>
              <a:gd name="adj1" fmla="val -1914814"/>
              <a:gd name="adj2" fmla="val 23408"/>
              <a:gd name="adj3" fmla="val -191481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1" name=""/>
          <p:cNvSpPr/>
          <p:nvPr/>
        </p:nvSpPr>
        <p:spPr>
          <a:xfrm>
            <a:off x="1314360" y="2590920"/>
            <a:ext cx="282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oristimo samo gra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značene s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…,k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"/>
          <p:cNvSpPr/>
          <p:nvPr/>
        </p:nvSpPr>
        <p:spPr>
          <a:xfrm>
            <a:off x="4776480" y="2895480"/>
            <a:ext cx="282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oristimo samo gra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značene s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…,k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3" name=""/>
          <p:cNvCxnSpPr>
            <a:stCxn id="1678" idx="5"/>
            <a:endCxn id="1677" idx="2"/>
          </p:cNvCxnSpPr>
          <p:nvPr/>
        </p:nvCxnSpPr>
        <p:spPr>
          <a:xfrm flipH="1" rot="16200000">
            <a:off x="4428360" y="983160"/>
            <a:ext cx="349920" cy="2713680"/>
          </a:xfrm>
          <a:prstGeom prst="curvedConnector2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684" name=""/>
          <p:cNvSpPr/>
          <p:nvPr/>
        </p:nvSpPr>
        <p:spPr>
          <a:xfrm>
            <a:off x="3222720" y="1600200"/>
            <a:ext cx="50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oristimo samo grane označene s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…,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1720800" y="3917880"/>
                <a:ext cx="618012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ko je </m:t>
                              </m:r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eight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dge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ko je 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grana</m:t>
                              </m:r>
                            </m:e>
                          </m:mr>
                          <m:mr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ač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1676520" y="5410080"/>
                <a:ext cx="4505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  <m:r>
                                <m:t xml:space="preserve">,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</m:sub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2A6C-3538-4EF3-AE7A-C86BB528606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/>
          <p:nvPr/>
        </p:nvSpPr>
        <p:spPr>
          <a:xfrm>
            <a:off x="761040" y="1828800"/>
            <a:ext cx="11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"/>
          <p:cNvSpPr/>
          <p:nvPr/>
        </p:nvSpPr>
        <p:spPr>
          <a:xfrm>
            <a:off x="1360440" y="4987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"/>
          <p:cNvSpPr/>
          <p:nvPr/>
        </p:nvSpPr>
        <p:spPr>
          <a:xfrm>
            <a:off x="1360440" y="23972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"/>
          <p:cNvSpPr/>
          <p:nvPr/>
        </p:nvSpPr>
        <p:spPr>
          <a:xfrm>
            <a:off x="2655720" y="36162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"/>
          <p:cNvSpPr/>
          <p:nvPr/>
        </p:nvSpPr>
        <p:spPr>
          <a:xfrm>
            <a:off x="4103640" y="49118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3" name=""/>
          <p:cNvSpPr/>
          <p:nvPr/>
        </p:nvSpPr>
        <p:spPr>
          <a:xfrm>
            <a:off x="4027320" y="23972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94" name=""/>
          <p:cNvCxnSpPr>
            <a:stCxn id="1689" idx="0"/>
            <a:endCxn id="1690" idx="4"/>
          </p:cNvCxnSpPr>
          <p:nvPr/>
        </p:nvCxnSpPr>
        <p:spPr>
          <a:xfrm flipV="1">
            <a:off x="1588680" y="2863440"/>
            <a:ext cx="1080" cy="2115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95" name=""/>
          <p:cNvCxnSpPr>
            <a:stCxn id="1689" idx="6"/>
            <a:endCxn id="1692" idx="2"/>
          </p:cNvCxnSpPr>
          <p:nvPr/>
        </p:nvCxnSpPr>
        <p:spPr>
          <a:xfrm flipV="1">
            <a:off x="1827000" y="513972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96" name=""/>
          <p:cNvCxnSpPr>
            <a:stCxn id="1690" idx="5"/>
            <a:endCxn id="1691" idx="1"/>
          </p:cNvCxnSpPr>
          <p:nvPr/>
        </p:nvCxnSpPr>
        <p:spPr>
          <a:xfrm>
            <a:off x="1750680" y="2797200"/>
            <a:ext cx="97236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97" name=""/>
          <p:cNvCxnSpPr>
            <a:stCxn id="1692" idx="0"/>
            <a:endCxn id="1693" idx="4"/>
          </p:cNvCxnSpPr>
          <p:nvPr/>
        </p:nvCxnSpPr>
        <p:spPr>
          <a:xfrm flipH="1" flipV="1">
            <a:off x="4255920" y="2863440"/>
            <a:ext cx="76680" cy="203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98" name=""/>
          <p:cNvCxnSpPr>
            <a:stCxn id="1689" idx="7"/>
            <a:endCxn id="1691" idx="3"/>
          </p:cNvCxnSpPr>
          <p:nvPr/>
        </p:nvCxnSpPr>
        <p:spPr>
          <a:xfrm flipV="1">
            <a:off x="1750680" y="4016160"/>
            <a:ext cx="972360" cy="1028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99" name=""/>
          <p:cNvCxnSpPr>
            <a:stCxn id="1690" idx="6"/>
            <a:endCxn id="1693" idx="2"/>
          </p:cNvCxnSpPr>
          <p:nvPr/>
        </p:nvCxnSpPr>
        <p:spPr>
          <a:xfrm>
            <a:off x="1827000" y="2625480"/>
            <a:ext cx="21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00" name=""/>
          <p:cNvCxnSpPr>
            <a:stCxn id="1692" idx="1"/>
            <a:endCxn id="1691" idx="5"/>
          </p:cNvCxnSpPr>
          <p:nvPr/>
        </p:nvCxnSpPr>
        <p:spPr>
          <a:xfrm flipH="1" flipV="1">
            <a:off x="3045960" y="4015800"/>
            <a:ext cx="1124640" cy="952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01" name=""/>
          <p:cNvCxnSpPr>
            <a:stCxn id="1693" idx="3"/>
            <a:endCxn id="1691" idx="7"/>
          </p:cNvCxnSpPr>
          <p:nvPr/>
        </p:nvCxnSpPr>
        <p:spPr>
          <a:xfrm flipH="1">
            <a:off x="3045960" y="2797200"/>
            <a:ext cx="104832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702" name=""/>
          <p:cNvSpPr/>
          <p:nvPr/>
        </p:nvSpPr>
        <p:spPr>
          <a:xfrm>
            <a:off x="1286280" y="3540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3" name=""/>
          <p:cNvSpPr/>
          <p:nvPr/>
        </p:nvSpPr>
        <p:spPr>
          <a:xfrm>
            <a:off x="2151360" y="437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4" name=""/>
          <p:cNvSpPr/>
          <p:nvPr/>
        </p:nvSpPr>
        <p:spPr>
          <a:xfrm>
            <a:off x="3294360" y="437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"/>
          <p:cNvSpPr/>
          <p:nvPr/>
        </p:nvSpPr>
        <p:spPr>
          <a:xfrm>
            <a:off x="2760840" y="5216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"/>
          <p:cNvSpPr/>
          <p:nvPr/>
        </p:nvSpPr>
        <p:spPr>
          <a:xfrm>
            <a:off x="4285080" y="361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7" name=""/>
          <p:cNvSpPr/>
          <p:nvPr/>
        </p:nvSpPr>
        <p:spPr>
          <a:xfrm>
            <a:off x="3267360" y="2854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"/>
          <p:cNvSpPr/>
          <p:nvPr/>
        </p:nvSpPr>
        <p:spPr>
          <a:xfrm>
            <a:off x="2200680" y="293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"/>
          <p:cNvSpPr/>
          <p:nvPr/>
        </p:nvSpPr>
        <p:spPr>
          <a:xfrm>
            <a:off x="2837160" y="21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10" name=""/>
          <p:cNvGraphicFramePr/>
          <p:nvPr/>
        </p:nvGraphicFramePr>
        <p:xfrm>
          <a:off x="5943600" y="3581280"/>
          <a:ext cx="2361960" cy="203220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1" name=""/>
          <p:cNvSpPr/>
          <p:nvPr/>
        </p:nvSpPr>
        <p:spPr>
          <a:xfrm>
            <a:off x="686664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4FE5-628F-4029-A17C-101C842F7DC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"/>
          <p:cNvSpPr/>
          <p:nvPr/>
        </p:nvSpPr>
        <p:spPr>
          <a:xfrm>
            <a:off x="837000" y="1752480"/>
            <a:ext cx="11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"/>
          <p:cNvSpPr/>
          <p:nvPr/>
        </p:nvSpPr>
        <p:spPr>
          <a:xfrm>
            <a:off x="1387440" y="52164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"/>
          <p:cNvSpPr/>
          <p:nvPr/>
        </p:nvSpPr>
        <p:spPr>
          <a:xfrm>
            <a:off x="1387440" y="26258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6" name=""/>
          <p:cNvSpPr/>
          <p:nvPr/>
        </p:nvSpPr>
        <p:spPr>
          <a:xfrm>
            <a:off x="2682720" y="3844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7" name=""/>
          <p:cNvSpPr/>
          <p:nvPr/>
        </p:nvSpPr>
        <p:spPr>
          <a:xfrm>
            <a:off x="4130640" y="51404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8" name=""/>
          <p:cNvSpPr/>
          <p:nvPr/>
        </p:nvSpPr>
        <p:spPr>
          <a:xfrm>
            <a:off x="4054320" y="26258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19" name=""/>
          <p:cNvCxnSpPr>
            <a:stCxn id="1714" idx="0"/>
            <a:endCxn id="1715" idx="4"/>
          </p:cNvCxnSpPr>
          <p:nvPr/>
        </p:nvCxnSpPr>
        <p:spPr>
          <a:xfrm flipV="1">
            <a:off x="1615680" y="3092040"/>
            <a:ext cx="1080" cy="2115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0" name=""/>
          <p:cNvCxnSpPr>
            <a:stCxn id="1714" idx="6"/>
            <a:endCxn id="1717" idx="2"/>
          </p:cNvCxnSpPr>
          <p:nvPr/>
        </p:nvCxnSpPr>
        <p:spPr>
          <a:xfrm flipV="1">
            <a:off x="1854000" y="536832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1" name=""/>
          <p:cNvCxnSpPr>
            <a:stCxn id="1715" idx="5"/>
            <a:endCxn id="1716" idx="1"/>
          </p:cNvCxnSpPr>
          <p:nvPr/>
        </p:nvCxnSpPr>
        <p:spPr>
          <a:xfrm>
            <a:off x="1777680" y="3025800"/>
            <a:ext cx="97236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2" name=""/>
          <p:cNvCxnSpPr>
            <a:stCxn id="1717" idx="0"/>
            <a:endCxn id="1718" idx="4"/>
          </p:cNvCxnSpPr>
          <p:nvPr/>
        </p:nvCxnSpPr>
        <p:spPr>
          <a:xfrm flipH="1" flipV="1">
            <a:off x="4282920" y="3092040"/>
            <a:ext cx="76680" cy="203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3" name=""/>
          <p:cNvCxnSpPr>
            <a:stCxn id="1714" idx="7"/>
            <a:endCxn id="1716" idx="3"/>
          </p:cNvCxnSpPr>
          <p:nvPr/>
        </p:nvCxnSpPr>
        <p:spPr>
          <a:xfrm flipV="1">
            <a:off x="1777680" y="4244760"/>
            <a:ext cx="972360" cy="1028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4" name=""/>
          <p:cNvCxnSpPr>
            <a:stCxn id="1715" idx="6"/>
            <a:endCxn id="1718" idx="2"/>
          </p:cNvCxnSpPr>
          <p:nvPr/>
        </p:nvCxnSpPr>
        <p:spPr>
          <a:xfrm>
            <a:off x="1854000" y="2854080"/>
            <a:ext cx="21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5" name=""/>
          <p:cNvCxnSpPr>
            <a:stCxn id="1717" idx="1"/>
            <a:endCxn id="1716" idx="5"/>
          </p:cNvCxnSpPr>
          <p:nvPr/>
        </p:nvCxnSpPr>
        <p:spPr>
          <a:xfrm flipH="1" flipV="1">
            <a:off x="3072960" y="4244400"/>
            <a:ext cx="1124640" cy="952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26" name=""/>
          <p:cNvCxnSpPr>
            <a:stCxn id="1718" idx="3"/>
            <a:endCxn id="1716" idx="7"/>
          </p:cNvCxnSpPr>
          <p:nvPr/>
        </p:nvCxnSpPr>
        <p:spPr>
          <a:xfrm flipH="1">
            <a:off x="3072960" y="3025800"/>
            <a:ext cx="104832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727" name=""/>
          <p:cNvSpPr/>
          <p:nvPr/>
        </p:nvSpPr>
        <p:spPr>
          <a:xfrm>
            <a:off x="1313280" y="3768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8" name=""/>
          <p:cNvSpPr/>
          <p:nvPr/>
        </p:nvSpPr>
        <p:spPr>
          <a:xfrm>
            <a:off x="2178360" y="460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"/>
          <p:cNvSpPr/>
          <p:nvPr/>
        </p:nvSpPr>
        <p:spPr>
          <a:xfrm>
            <a:off x="3321360" y="460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0" name=""/>
          <p:cNvSpPr/>
          <p:nvPr/>
        </p:nvSpPr>
        <p:spPr>
          <a:xfrm>
            <a:off x="2787840" y="536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1" name=""/>
          <p:cNvSpPr/>
          <p:nvPr/>
        </p:nvSpPr>
        <p:spPr>
          <a:xfrm>
            <a:off x="4312080" y="384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"/>
          <p:cNvSpPr/>
          <p:nvPr/>
        </p:nvSpPr>
        <p:spPr>
          <a:xfrm>
            <a:off x="3294360" y="3083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3" name=""/>
          <p:cNvSpPr/>
          <p:nvPr/>
        </p:nvSpPr>
        <p:spPr>
          <a:xfrm>
            <a:off x="2227680" y="31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4" name=""/>
          <p:cNvSpPr/>
          <p:nvPr/>
        </p:nvSpPr>
        <p:spPr>
          <a:xfrm>
            <a:off x="2864160" y="2397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5" name=""/>
          <p:cNvGraphicFramePr/>
          <p:nvPr/>
        </p:nvGraphicFramePr>
        <p:xfrm>
          <a:off x="5943600" y="3581280"/>
          <a:ext cx="2361960" cy="203220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6" name=""/>
          <p:cNvSpPr/>
          <p:nvPr/>
        </p:nvSpPr>
        <p:spPr>
          <a:xfrm>
            <a:off x="686664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AED6-0B6B-4D1B-8754-594AF21CC81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/>
          <p:nvPr/>
        </p:nvSpPr>
        <p:spPr>
          <a:xfrm>
            <a:off x="761040" y="18288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"/>
          <p:cNvSpPr/>
          <p:nvPr/>
        </p:nvSpPr>
        <p:spPr>
          <a:xfrm>
            <a:off x="1311120" y="529272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"/>
          <p:cNvSpPr/>
          <p:nvPr/>
        </p:nvSpPr>
        <p:spPr>
          <a:xfrm>
            <a:off x="1311120" y="2701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"/>
          <p:cNvSpPr/>
          <p:nvPr/>
        </p:nvSpPr>
        <p:spPr>
          <a:xfrm>
            <a:off x="2606760" y="392112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"/>
          <p:cNvSpPr/>
          <p:nvPr/>
        </p:nvSpPr>
        <p:spPr>
          <a:xfrm>
            <a:off x="4054320" y="52164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"/>
          <p:cNvSpPr/>
          <p:nvPr/>
        </p:nvSpPr>
        <p:spPr>
          <a:xfrm>
            <a:off x="3978360" y="2701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44" name=""/>
          <p:cNvCxnSpPr>
            <a:stCxn id="1739" idx="0"/>
            <a:endCxn id="1740" idx="4"/>
          </p:cNvCxnSpPr>
          <p:nvPr/>
        </p:nvCxnSpPr>
        <p:spPr>
          <a:xfrm flipV="1">
            <a:off x="1539360" y="3168360"/>
            <a:ext cx="1080" cy="2115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45" name=""/>
          <p:cNvCxnSpPr>
            <a:stCxn id="1739" idx="6"/>
            <a:endCxn id="1742" idx="2"/>
          </p:cNvCxnSpPr>
          <p:nvPr/>
        </p:nvCxnSpPr>
        <p:spPr>
          <a:xfrm flipV="1">
            <a:off x="1777680" y="544500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46" name=""/>
          <p:cNvCxnSpPr>
            <a:stCxn id="1740" idx="5"/>
            <a:endCxn id="1741" idx="1"/>
          </p:cNvCxnSpPr>
          <p:nvPr/>
        </p:nvCxnSpPr>
        <p:spPr>
          <a:xfrm>
            <a:off x="1701360" y="3102120"/>
            <a:ext cx="97236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47" name=""/>
          <p:cNvCxnSpPr>
            <a:stCxn id="1742" idx="0"/>
            <a:endCxn id="1743" idx="4"/>
          </p:cNvCxnSpPr>
          <p:nvPr/>
        </p:nvCxnSpPr>
        <p:spPr>
          <a:xfrm flipH="1" flipV="1">
            <a:off x="4206240" y="3168360"/>
            <a:ext cx="76680" cy="203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48" name=""/>
          <p:cNvCxnSpPr>
            <a:stCxn id="1739" idx="7"/>
            <a:endCxn id="1741" idx="3"/>
          </p:cNvCxnSpPr>
          <p:nvPr/>
        </p:nvCxnSpPr>
        <p:spPr>
          <a:xfrm flipV="1">
            <a:off x="1701360" y="4320720"/>
            <a:ext cx="972360" cy="1029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49" name=""/>
          <p:cNvCxnSpPr>
            <a:stCxn id="1740" idx="6"/>
            <a:endCxn id="1743" idx="2"/>
          </p:cNvCxnSpPr>
          <p:nvPr/>
        </p:nvCxnSpPr>
        <p:spPr>
          <a:xfrm>
            <a:off x="1777680" y="2930040"/>
            <a:ext cx="21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50" name=""/>
          <p:cNvCxnSpPr>
            <a:stCxn id="1742" idx="1"/>
            <a:endCxn id="1741" idx="5"/>
          </p:cNvCxnSpPr>
          <p:nvPr/>
        </p:nvCxnSpPr>
        <p:spPr>
          <a:xfrm flipH="1" flipV="1">
            <a:off x="2997000" y="4320720"/>
            <a:ext cx="1124640" cy="9532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51" name=""/>
          <p:cNvCxnSpPr>
            <a:stCxn id="1743" idx="3"/>
            <a:endCxn id="1741" idx="7"/>
          </p:cNvCxnSpPr>
          <p:nvPr/>
        </p:nvCxnSpPr>
        <p:spPr>
          <a:xfrm flipH="1">
            <a:off x="2997000" y="3102120"/>
            <a:ext cx="104832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752" name=""/>
          <p:cNvSpPr/>
          <p:nvPr/>
        </p:nvSpPr>
        <p:spPr>
          <a:xfrm>
            <a:off x="1236960" y="384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"/>
          <p:cNvSpPr/>
          <p:nvPr/>
        </p:nvSpPr>
        <p:spPr>
          <a:xfrm>
            <a:off x="2102040" y="468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"/>
          <p:cNvSpPr/>
          <p:nvPr/>
        </p:nvSpPr>
        <p:spPr>
          <a:xfrm>
            <a:off x="3245040" y="468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"/>
          <p:cNvSpPr/>
          <p:nvPr/>
        </p:nvSpPr>
        <p:spPr>
          <a:xfrm>
            <a:off x="2711880" y="54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"/>
          <p:cNvSpPr/>
          <p:nvPr/>
        </p:nvSpPr>
        <p:spPr>
          <a:xfrm>
            <a:off x="4235760" y="392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"/>
          <p:cNvSpPr/>
          <p:nvPr/>
        </p:nvSpPr>
        <p:spPr>
          <a:xfrm>
            <a:off x="3218040" y="31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"/>
          <p:cNvSpPr/>
          <p:nvPr/>
        </p:nvSpPr>
        <p:spPr>
          <a:xfrm>
            <a:off x="2151360" y="323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"/>
          <p:cNvSpPr/>
          <p:nvPr/>
        </p:nvSpPr>
        <p:spPr>
          <a:xfrm>
            <a:off x="2787840" y="247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0" name=""/>
          <p:cNvGraphicFramePr/>
          <p:nvPr/>
        </p:nvGraphicFramePr>
        <p:xfrm>
          <a:off x="5943600" y="3581280"/>
          <a:ext cx="2361960" cy="203220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1" name=""/>
          <p:cNvSpPr/>
          <p:nvPr/>
        </p:nvSpPr>
        <p:spPr>
          <a:xfrm>
            <a:off x="686664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3BB-3F6C-419C-80EA-70884392E81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"/>
          <p:cNvSpPr/>
          <p:nvPr/>
        </p:nvSpPr>
        <p:spPr>
          <a:xfrm>
            <a:off x="837000" y="18288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"/>
          <p:cNvSpPr/>
          <p:nvPr/>
        </p:nvSpPr>
        <p:spPr>
          <a:xfrm>
            <a:off x="1387440" y="529272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"/>
          <p:cNvSpPr/>
          <p:nvPr/>
        </p:nvSpPr>
        <p:spPr>
          <a:xfrm>
            <a:off x="1387440" y="2701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"/>
          <p:cNvSpPr/>
          <p:nvPr/>
        </p:nvSpPr>
        <p:spPr>
          <a:xfrm>
            <a:off x="2682720" y="392112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"/>
          <p:cNvSpPr/>
          <p:nvPr/>
        </p:nvSpPr>
        <p:spPr>
          <a:xfrm>
            <a:off x="4130640" y="52164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"/>
          <p:cNvSpPr/>
          <p:nvPr/>
        </p:nvSpPr>
        <p:spPr>
          <a:xfrm>
            <a:off x="4054320" y="2701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69" name=""/>
          <p:cNvCxnSpPr>
            <a:stCxn id="1764" idx="0"/>
            <a:endCxn id="1765" idx="4"/>
          </p:cNvCxnSpPr>
          <p:nvPr/>
        </p:nvCxnSpPr>
        <p:spPr>
          <a:xfrm flipV="1">
            <a:off x="1615680" y="3168360"/>
            <a:ext cx="1080" cy="2115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0" name=""/>
          <p:cNvCxnSpPr>
            <a:stCxn id="1764" idx="6"/>
            <a:endCxn id="1767" idx="2"/>
          </p:cNvCxnSpPr>
          <p:nvPr/>
        </p:nvCxnSpPr>
        <p:spPr>
          <a:xfrm flipV="1">
            <a:off x="1854000" y="544500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1" name=""/>
          <p:cNvCxnSpPr>
            <a:stCxn id="1765" idx="5"/>
            <a:endCxn id="1766" idx="1"/>
          </p:cNvCxnSpPr>
          <p:nvPr/>
        </p:nvCxnSpPr>
        <p:spPr>
          <a:xfrm>
            <a:off x="1777680" y="3102120"/>
            <a:ext cx="97236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2" name=""/>
          <p:cNvCxnSpPr>
            <a:stCxn id="1767" idx="0"/>
            <a:endCxn id="1768" idx="4"/>
          </p:cNvCxnSpPr>
          <p:nvPr/>
        </p:nvCxnSpPr>
        <p:spPr>
          <a:xfrm flipH="1" flipV="1">
            <a:off x="4282920" y="3168360"/>
            <a:ext cx="76680" cy="203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3" name=""/>
          <p:cNvCxnSpPr>
            <a:stCxn id="1764" idx="7"/>
            <a:endCxn id="1766" idx="3"/>
          </p:cNvCxnSpPr>
          <p:nvPr/>
        </p:nvCxnSpPr>
        <p:spPr>
          <a:xfrm flipV="1">
            <a:off x="1777680" y="4320720"/>
            <a:ext cx="972360" cy="1029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4" name=""/>
          <p:cNvCxnSpPr>
            <a:stCxn id="1765" idx="6"/>
            <a:endCxn id="1768" idx="2"/>
          </p:cNvCxnSpPr>
          <p:nvPr/>
        </p:nvCxnSpPr>
        <p:spPr>
          <a:xfrm>
            <a:off x="1854000" y="2930040"/>
            <a:ext cx="21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5" name=""/>
          <p:cNvCxnSpPr>
            <a:stCxn id="1767" idx="1"/>
            <a:endCxn id="1766" idx="5"/>
          </p:cNvCxnSpPr>
          <p:nvPr/>
        </p:nvCxnSpPr>
        <p:spPr>
          <a:xfrm flipH="1" flipV="1">
            <a:off x="3072960" y="4320720"/>
            <a:ext cx="1124640" cy="9532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76" name=""/>
          <p:cNvCxnSpPr>
            <a:stCxn id="1768" idx="3"/>
            <a:endCxn id="1766" idx="7"/>
          </p:cNvCxnSpPr>
          <p:nvPr/>
        </p:nvCxnSpPr>
        <p:spPr>
          <a:xfrm flipH="1">
            <a:off x="3072960" y="3102120"/>
            <a:ext cx="104832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777" name=""/>
          <p:cNvSpPr/>
          <p:nvPr/>
        </p:nvSpPr>
        <p:spPr>
          <a:xfrm>
            <a:off x="1313280" y="384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"/>
          <p:cNvSpPr/>
          <p:nvPr/>
        </p:nvSpPr>
        <p:spPr>
          <a:xfrm>
            <a:off x="2178360" y="468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"/>
          <p:cNvSpPr/>
          <p:nvPr/>
        </p:nvSpPr>
        <p:spPr>
          <a:xfrm>
            <a:off x="3321360" y="468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0" name=""/>
          <p:cNvSpPr/>
          <p:nvPr/>
        </p:nvSpPr>
        <p:spPr>
          <a:xfrm>
            <a:off x="2787840" y="54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1" name=""/>
          <p:cNvSpPr/>
          <p:nvPr/>
        </p:nvSpPr>
        <p:spPr>
          <a:xfrm>
            <a:off x="4312080" y="392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2" name=""/>
          <p:cNvSpPr/>
          <p:nvPr/>
        </p:nvSpPr>
        <p:spPr>
          <a:xfrm>
            <a:off x="3294360" y="31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3" name=""/>
          <p:cNvSpPr/>
          <p:nvPr/>
        </p:nvSpPr>
        <p:spPr>
          <a:xfrm>
            <a:off x="2227680" y="323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"/>
          <p:cNvSpPr/>
          <p:nvPr/>
        </p:nvSpPr>
        <p:spPr>
          <a:xfrm>
            <a:off x="2864160" y="247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5" name=""/>
          <p:cNvGraphicFramePr/>
          <p:nvPr/>
        </p:nvGraphicFramePr>
        <p:xfrm>
          <a:off x="5943600" y="3581280"/>
          <a:ext cx="2361960" cy="203220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6" name=""/>
          <p:cNvSpPr/>
          <p:nvPr/>
        </p:nvSpPr>
        <p:spPr>
          <a:xfrm>
            <a:off x="686664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601-28B4-4118-9A9B-7C849DFC4EA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/>
          <p:nvPr/>
        </p:nvSpPr>
        <p:spPr>
          <a:xfrm>
            <a:off x="837000" y="18288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9" name=""/>
          <p:cNvSpPr/>
          <p:nvPr/>
        </p:nvSpPr>
        <p:spPr>
          <a:xfrm>
            <a:off x="1387440" y="529272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"/>
          <p:cNvSpPr/>
          <p:nvPr/>
        </p:nvSpPr>
        <p:spPr>
          <a:xfrm>
            <a:off x="1387440" y="2701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1" name=""/>
          <p:cNvSpPr/>
          <p:nvPr/>
        </p:nvSpPr>
        <p:spPr>
          <a:xfrm>
            <a:off x="2682720" y="392112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2" name=""/>
          <p:cNvSpPr/>
          <p:nvPr/>
        </p:nvSpPr>
        <p:spPr>
          <a:xfrm>
            <a:off x="4130640" y="52164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3" name=""/>
          <p:cNvSpPr/>
          <p:nvPr/>
        </p:nvSpPr>
        <p:spPr>
          <a:xfrm>
            <a:off x="4054320" y="2701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94" name=""/>
          <p:cNvCxnSpPr>
            <a:stCxn id="1789" idx="0"/>
            <a:endCxn id="1790" idx="4"/>
          </p:cNvCxnSpPr>
          <p:nvPr/>
        </p:nvCxnSpPr>
        <p:spPr>
          <a:xfrm flipV="1">
            <a:off x="1615680" y="3168360"/>
            <a:ext cx="1080" cy="2115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5" name=""/>
          <p:cNvCxnSpPr>
            <a:stCxn id="1789" idx="6"/>
            <a:endCxn id="1792" idx="2"/>
          </p:cNvCxnSpPr>
          <p:nvPr/>
        </p:nvCxnSpPr>
        <p:spPr>
          <a:xfrm flipV="1">
            <a:off x="1854000" y="544500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6" name=""/>
          <p:cNvCxnSpPr>
            <a:stCxn id="1790" idx="5"/>
            <a:endCxn id="1791" idx="1"/>
          </p:cNvCxnSpPr>
          <p:nvPr/>
        </p:nvCxnSpPr>
        <p:spPr>
          <a:xfrm>
            <a:off x="1777680" y="3102120"/>
            <a:ext cx="97236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7" name=""/>
          <p:cNvCxnSpPr>
            <a:stCxn id="1792" idx="0"/>
            <a:endCxn id="1793" idx="4"/>
          </p:cNvCxnSpPr>
          <p:nvPr/>
        </p:nvCxnSpPr>
        <p:spPr>
          <a:xfrm flipH="1" flipV="1">
            <a:off x="4282920" y="3168360"/>
            <a:ext cx="76680" cy="203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8" name=""/>
          <p:cNvCxnSpPr>
            <a:stCxn id="1789" idx="7"/>
            <a:endCxn id="1791" idx="3"/>
          </p:cNvCxnSpPr>
          <p:nvPr/>
        </p:nvCxnSpPr>
        <p:spPr>
          <a:xfrm flipV="1">
            <a:off x="1777680" y="4320720"/>
            <a:ext cx="972360" cy="1029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9" name=""/>
          <p:cNvCxnSpPr>
            <a:stCxn id="1790" idx="6"/>
            <a:endCxn id="1793" idx="2"/>
          </p:cNvCxnSpPr>
          <p:nvPr/>
        </p:nvCxnSpPr>
        <p:spPr>
          <a:xfrm>
            <a:off x="1854000" y="2930040"/>
            <a:ext cx="21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00" name=""/>
          <p:cNvCxnSpPr>
            <a:stCxn id="1792" idx="1"/>
            <a:endCxn id="1791" idx="5"/>
          </p:cNvCxnSpPr>
          <p:nvPr/>
        </p:nvCxnSpPr>
        <p:spPr>
          <a:xfrm flipH="1" flipV="1">
            <a:off x="3072960" y="4320720"/>
            <a:ext cx="1124640" cy="9532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01" name=""/>
          <p:cNvCxnSpPr>
            <a:stCxn id="1793" idx="3"/>
            <a:endCxn id="1791" idx="7"/>
          </p:cNvCxnSpPr>
          <p:nvPr/>
        </p:nvCxnSpPr>
        <p:spPr>
          <a:xfrm flipH="1">
            <a:off x="3072960" y="3102120"/>
            <a:ext cx="104832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802" name=""/>
          <p:cNvSpPr/>
          <p:nvPr/>
        </p:nvSpPr>
        <p:spPr>
          <a:xfrm>
            <a:off x="1313280" y="384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3" name=""/>
          <p:cNvSpPr/>
          <p:nvPr/>
        </p:nvSpPr>
        <p:spPr>
          <a:xfrm>
            <a:off x="2178360" y="468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"/>
          <p:cNvSpPr/>
          <p:nvPr/>
        </p:nvSpPr>
        <p:spPr>
          <a:xfrm>
            <a:off x="3321360" y="4683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5" name=""/>
          <p:cNvSpPr/>
          <p:nvPr/>
        </p:nvSpPr>
        <p:spPr>
          <a:xfrm>
            <a:off x="2787840" y="54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"/>
          <p:cNvSpPr/>
          <p:nvPr/>
        </p:nvSpPr>
        <p:spPr>
          <a:xfrm>
            <a:off x="4312080" y="392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7" name=""/>
          <p:cNvSpPr/>
          <p:nvPr/>
        </p:nvSpPr>
        <p:spPr>
          <a:xfrm>
            <a:off x="3294360" y="31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8" name=""/>
          <p:cNvSpPr/>
          <p:nvPr/>
        </p:nvSpPr>
        <p:spPr>
          <a:xfrm>
            <a:off x="2227680" y="323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9" name=""/>
          <p:cNvSpPr/>
          <p:nvPr/>
        </p:nvSpPr>
        <p:spPr>
          <a:xfrm>
            <a:off x="2864160" y="247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0" name=""/>
          <p:cNvGraphicFramePr/>
          <p:nvPr/>
        </p:nvGraphicFramePr>
        <p:xfrm>
          <a:off x="5943600" y="3581280"/>
          <a:ext cx="2361960" cy="203220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1" name=""/>
          <p:cNvSpPr/>
          <p:nvPr/>
        </p:nvSpPr>
        <p:spPr>
          <a:xfrm>
            <a:off x="686664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CFBC-E51E-43D5-B35B-4A455C7809D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 2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33520" y="1905120"/>
            <a:ext cx="2089080" cy="1272240"/>
            <a:chOff x="533520" y="1905120"/>
            <a:chExt cx="2089080" cy="1272240"/>
          </a:xfrm>
        </p:grpSpPr>
        <p:sp>
          <p:nvSpPr>
            <p:cNvPr id="338" name=""/>
            <p:cNvSpPr/>
            <p:nvPr/>
          </p:nvSpPr>
          <p:spPr>
            <a:xfrm>
              <a:off x="2440080" y="2043000"/>
              <a:ext cx="36360" cy="17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40080" y="2854440"/>
              <a:ext cx="36360" cy="1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40080" y="2060640"/>
              <a:ext cx="36360" cy="793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38200" y="2881080"/>
              <a:ext cx="2880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23"/>
                  </a:moveTo>
                  <a:lnTo>
                    <a:pt x="6" y="29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54120" y="259884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12" y="23"/>
                  </a:moveTo>
                  <a:lnTo>
                    <a:pt x="0" y="17"/>
                  </a:lnTo>
                  <a:lnTo>
                    <a:pt x="6" y="0"/>
                  </a:lnTo>
                  <a:lnTo>
                    <a:pt x="18" y="0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73200" y="2598840"/>
              <a:ext cx="774720" cy="318960"/>
            </a:xfrm>
            <a:custGeom>
              <a:avLst/>
              <a:gdLst/>
              <a:ahLst/>
              <a:rect l="l" t="t" r="r" b="b"/>
              <a:pathLst>
                <a:path w="488" h="201">
                  <a:moveTo>
                    <a:pt x="482" y="201"/>
                  </a:moveTo>
                  <a:lnTo>
                    <a:pt x="488" y="178"/>
                  </a:lnTo>
                  <a:lnTo>
                    <a:pt x="6" y="0"/>
                  </a:lnTo>
                  <a:lnTo>
                    <a:pt x="0" y="23"/>
                  </a:lnTo>
                  <a:lnTo>
                    <a:pt x="482" y="20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63480" y="2598840"/>
              <a:ext cx="36720" cy="4572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3"/>
                  </a:moveTo>
                  <a:lnTo>
                    <a:pt x="12" y="29"/>
                  </a:lnTo>
                  <a:lnTo>
                    <a:pt x="23" y="12"/>
                  </a:lnTo>
                  <a:lnTo>
                    <a:pt x="12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79400" y="2143080"/>
              <a:ext cx="36360" cy="4608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11" y="29"/>
                  </a:moveTo>
                  <a:lnTo>
                    <a:pt x="0" y="23"/>
                  </a:lnTo>
                  <a:lnTo>
                    <a:pt x="17" y="0"/>
                  </a:lnTo>
                  <a:lnTo>
                    <a:pt x="23" y="6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7040" y="2152440"/>
              <a:ext cx="785520" cy="482760"/>
            </a:xfrm>
            <a:custGeom>
              <a:avLst/>
              <a:gdLst/>
              <a:ahLst/>
              <a:rect l="l" t="t" r="r" b="b"/>
              <a:pathLst>
                <a:path w="495" h="304">
                  <a:moveTo>
                    <a:pt x="483" y="304"/>
                  </a:moveTo>
                  <a:lnTo>
                    <a:pt x="495" y="281"/>
                  </a:lnTo>
                  <a:lnTo>
                    <a:pt x="12" y="0"/>
                  </a:lnTo>
                  <a:lnTo>
                    <a:pt x="0" y="23"/>
                  </a:lnTo>
                  <a:lnTo>
                    <a:pt x="483" y="3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63480" y="259884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2" y="23"/>
                  </a:moveTo>
                  <a:lnTo>
                    <a:pt x="23" y="17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040" y="294480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7" y="23"/>
                  </a:moveTo>
                  <a:lnTo>
                    <a:pt x="6" y="29"/>
                  </a:lnTo>
                  <a:lnTo>
                    <a:pt x="0" y="6"/>
                  </a:lnTo>
                  <a:lnTo>
                    <a:pt x="6" y="0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5400" y="2598840"/>
              <a:ext cx="857160" cy="382320"/>
            </a:xfrm>
            <a:custGeom>
              <a:avLst/>
              <a:gdLst/>
              <a:ahLst/>
              <a:rect l="l" t="t" r="r" b="b"/>
              <a:pathLst>
                <a:path w="540" h="241">
                  <a:moveTo>
                    <a:pt x="540" y="23"/>
                  </a:moveTo>
                  <a:lnTo>
                    <a:pt x="528" y="0"/>
                  </a:lnTo>
                  <a:lnTo>
                    <a:pt x="0" y="218"/>
                  </a:lnTo>
                  <a:lnTo>
                    <a:pt x="11" y="241"/>
                  </a:lnTo>
                  <a:lnTo>
                    <a:pt x="540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9960" y="2197080"/>
              <a:ext cx="36360" cy="19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9960" y="2854440"/>
              <a:ext cx="36360" cy="1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9960" y="2216160"/>
              <a:ext cx="36360" cy="63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9960" y="2043000"/>
              <a:ext cx="1908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57360" y="2043000"/>
              <a:ext cx="1908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9040" y="2043000"/>
              <a:ext cx="17683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9960" y="2990880"/>
              <a:ext cx="190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57360" y="2990880"/>
              <a:ext cx="1908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9040" y="2990880"/>
              <a:ext cx="17683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3520" y="1905120"/>
              <a:ext cx="318960" cy="320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6400" y="1909800"/>
              <a:ext cx="312840" cy="3110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93920" y="2854440"/>
              <a:ext cx="328680" cy="318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97160" y="2857320"/>
              <a:ext cx="320760" cy="3128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17680" y="2462040"/>
              <a:ext cx="318960" cy="30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20920" y="2465280"/>
              <a:ext cx="312480" cy="30312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93920" y="1905120"/>
              <a:ext cx="328680" cy="320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97160" y="1909800"/>
              <a:ext cx="320760" cy="3110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3520" y="2854440"/>
              <a:ext cx="318960" cy="318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6400" y="2857320"/>
              <a:ext cx="312840" cy="31284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3240" y="1931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94000" y="1960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17040" y="24890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5960" y="29178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403360" y="28987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703440" y="5981760"/>
            <a:ext cx="79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1756440" y="4800600"/>
            <a:ext cx="4063680" cy="8254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c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eg(v)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648320" y="1828800"/>
            <a:ext cx="2173320" cy="2324160"/>
            <a:chOff x="4648320" y="1828800"/>
            <a:chExt cx="2173320" cy="2324160"/>
          </a:xfrm>
        </p:grpSpPr>
        <p:sp>
          <p:nvSpPr>
            <p:cNvPr id="377" name=""/>
            <p:cNvSpPr/>
            <p:nvPr/>
          </p:nvSpPr>
          <p:spPr>
            <a:xfrm>
              <a:off x="5280480" y="3760560"/>
              <a:ext cx="1541160" cy="392400"/>
            </a:xfrm>
            <a:prstGeom prst="roundRect">
              <a:avLst>
                <a:gd name="adj" fmla="val 4090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72200" y="3241440"/>
              <a:ext cx="1541520" cy="392400"/>
            </a:xfrm>
            <a:prstGeom prst="roundRect">
              <a:avLst>
                <a:gd name="adj" fmla="val 4090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72200" y="2768400"/>
              <a:ext cx="1541520" cy="390600"/>
            </a:xfrm>
            <a:prstGeom prst="roundRect">
              <a:avLst>
                <a:gd name="adj" fmla="val 4090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72200" y="2320920"/>
              <a:ext cx="986040" cy="392040"/>
            </a:xfrm>
            <a:prstGeom prst="roundRect">
              <a:avLst>
                <a:gd name="adj" fmla="val 4090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72200" y="1828800"/>
              <a:ext cx="1541520" cy="392040"/>
            </a:xfrm>
            <a:prstGeom prst="roundRect">
              <a:avLst>
                <a:gd name="adj" fmla="val 4090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04080" y="2006640"/>
              <a:ext cx="1764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13800" y="1979640"/>
              <a:ext cx="13644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0" y="22"/>
                  </a:moveTo>
                  <a:lnTo>
                    <a:pt x="0" y="0"/>
                  </a:lnTo>
                  <a:lnTo>
                    <a:pt x="86" y="22"/>
                  </a:lnTo>
                  <a:lnTo>
                    <a:pt x="0" y="5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13800" y="1979640"/>
              <a:ext cx="13644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0" y="22"/>
                  </a:moveTo>
                  <a:lnTo>
                    <a:pt x="0" y="0"/>
                  </a:lnTo>
                  <a:lnTo>
                    <a:pt x="86" y="22"/>
                  </a:lnTo>
                  <a:lnTo>
                    <a:pt x="0" y="5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921560" y="2006640"/>
              <a:ext cx="936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104080" y="2006640"/>
              <a:ext cx="972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30920" y="2006640"/>
              <a:ext cx="17316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04080" y="2498760"/>
              <a:ext cx="17640" cy="1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13800" y="2471760"/>
              <a:ext cx="13644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0" y="23"/>
                  </a:moveTo>
                  <a:lnTo>
                    <a:pt x="0" y="0"/>
                  </a:lnTo>
                  <a:lnTo>
                    <a:pt x="86" y="23"/>
                  </a:lnTo>
                  <a:lnTo>
                    <a:pt x="0" y="5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13800" y="2471760"/>
              <a:ext cx="13644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0" y="23"/>
                  </a:moveTo>
                  <a:lnTo>
                    <a:pt x="0" y="0"/>
                  </a:lnTo>
                  <a:lnTo>
                    <a:pt x="86" y="23"/>
                  </a:lnTo>
                  <a:lnTo>
                    <a:pt x="0" y="5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21560" y="2498760"/>
              <a:ext cx="936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04080" y="2498760"/>
              <a:ext cx="972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30920" y="2498760"/>
              <a:ext cx="173160" cy="1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04080" y="2954160"/>
              <a:ext cx="17640" cy="1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13800" y="2927160"/>
              <a:ext cx="136440" cy="82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23"/>
                  </a:moveTo>
                  <a:lnTo>
                    <a:pt x="0" y="0"/>
                  </a:lnTo>
                  <a:lnTo>
                    <a:pt x="86" y="23"/>
                  </a:lnTo>
                  <a:lnTo>
                    <a:pt x="0" y="5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113800" y="2927160"/>
              <a:ext cx="136440" cy="82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23"/>
                  </a:moveTo>
                  <a:lnTo>
                    <a:pt x="0" y="0"/>
                  </a:lnTo>
                  <a:lnTo>
                    <a:pt x="86" y="23"/>
                  </a:lnTo>
                  <a:lnTo>
                    <a:pt x="0" y="5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21560" y="2954160"/>
              <a:ext cx="936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04080" y="2954160"/>
              <a:ext cx="972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30920" y="2954160"/>
              <a:ext cx="17316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04080" y="3930480"/>
              <a:ext cx="17640" cy="1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13800" y="3903480"/>
              <a:ext cx="136440" cy="82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23"/>
                  </a:moveTo>
                  <a:lnTo>
                    <a:pt x="0" y="0"/>
                  </a:lnTo>
                  <a:lnTo>
                    <a:pt x="86" y="23"/>
                  </a:lnTo>
                  <a:lnTo>
                    <a:pt x="0" y="5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13800" y="3903480"/>
              <a:ext cx="136440" cy="82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23"/>
                  </a:moveTo>
                  <a:lnTo>
                    <a:pt x="0" y="0"/>
                  </a:lnTo>
                  <a:lnTo>
                    <a:pt x="86" y="23"/>
                  </a:lnTo>
                  <a:lnTo>
                    <a:pt x="0" y="5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21560" y="3930480"/>
              <a:ext cx="936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04080" y="3930480"/>
              <a:ext cx="972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930920" y="3930480"/>
              <a:ext cx="17316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69120" y="3940200"/>
              <a:ext cx="1139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69120" y="3438360"/>
              <a:ext cx="1139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469120" y="2963880"/>
              <a:ext cx="1139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69120" y="2508120"/>
              <a:ext cx="61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51920" y="2014560"/>
              <a:ext cx="1038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45280" y="190188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94760" y="190188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20200" y="190188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45280" y="239400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20200" y="239400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345280" y="284940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94760" y="284940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20200" y="284940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55000" y="331452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04120" y="331452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29560" y="331452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45280" y="382572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94760" y="382572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20200" y="3825720"/>
              <a:ext cx="23652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22680" y="1914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22680" y="38304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97240" y="18874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997240" y="38116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06600" y="33004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53080" y="1914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12960" y="237960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97240" y="237960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2960" y="283536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87880" y="28623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71800" y="283536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422320" y="33004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89440" y="33004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53080" y="38304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48320" y="1841400"/>
              <a:ext cx="30960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51560" y="1846080"/>
              <a:ext cx="303480" cy="30168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48320" y="2306520"/>
              <a:ext cx="30960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51560" y="2311200"/>
              <a:ext cx="303480" cy="30168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48320" y="2790720"/>
              <a:ext cx="309600" cy="30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51560" y="2793960"/>
              <a:ext cx="303480" cy="30312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48320" y="3265560"/>
              <a:ext cx="309600" cy="30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51560" y="3268440"/>
              <a:ext cx="303480" cy="30348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48320" y="3738600"/>
              <a:ext cx="30960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51560" y="3743280"/>
              <a:ext cx="303480" cy="303120"/>
            </a:xfrm>
            <a:prstGeom prst="ellipse">
              <a:avLst/>
            </a:prstGeom>
            <a:noFill/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04080" y="3429000"/>
              <a:ext cx="17640" cy="1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121720" y="3402000"/>
              <a:ext cx="137880" cy="824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0" y="23"/>
                  </a:moveTo>
                  <a:lnTo>
                    <a:pt x="0" y="0"/>
                  </a:lnTo>
                  <a:lnTo>
                    <a:pt x="87" y="23"/>
                  </a:lnTo>
                  <a:lnTo>
                    <a:pt x="0" y="5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21720" y="3402000"/>
              <a:ext cx="137880" cy="824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0" y="23"/>
                  </a:moveTo>
                  <a:lnTo>
                    <a:pt x="0" y="0"/>
                  </a:lnTo>
                  <a:lnTo>
                    <a:pt x="87" y="23"/>
                  </a:lnTo>
                  <a:lnTo>
                    <a:pt x="0" y="5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30920" y="3429000"/>
              <a:ext cx="972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940640" y="3429000"/>
              <a:ext cx="17316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38680" y="23461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71440" y="186696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58840" y="280332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46600" y="32986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38320" y="37702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7EB1-F2B2-4BFA-805E-CC9D2F1CB4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"/>
          <p:cNvSpPr/>
          <p:nvPr/>
        </p:nvSpPr>
        <p:spPr>
          <a:xfrm>
            <a:off x="761040" y="175248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4" name=""/>
          <p:cNvSpPr/>
          <p:nvPr/>
        </p:nvSpPr>
        <p:spPr>
          <a:xfrm>
            <a:off x="1311120" y="52164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5" name=""/>
          <p:cNvSpPr/>
          <p:nvPr/>
        </p:nvSpPr>
        <p:spPr>
          <a:xfrm>
            <a:off x="1311120" y="26258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"/>
          <p:cNvSpPr/>
          <p:nvPr/>
        </p:nvSpPr>
        <p:spPr>
          <a:xfrm>
            <a:off x="2606760" y="384480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"/>
          <p:cNvSpPr/>
          <p:nvPr/>
        </p:nvSpPr>
        <p:spPr>
          <a:xfrm>
            <a:off x="4054320" y="51404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"/>
          <p:cNvSpPr/>
          <p:nvPr/>
        </p:nvSpPr>
        <p:spPr>
          <a:xfrm>
            <a:off x="3978360" y="262584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19" name=""/>
          <p:cNvCxnSpPr>
            <a:stCxn id="1814" idx="0"/>
            <a:endCxn id="1815" idx="4"/>
          </p:cNvCxnSpPr>
          <p:nvPr/>
        </p:nvCxnSpPr>
        <p:spPr>
          <a:xfrm flipV="1">
            <a:off x="1539360" y="3092040"/>
            <a:ext cx="1080" cy="2115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0" name=""/>
          <p:cNvCxnSpPr>
            <a:stCxn id="1814" idx="6"/>
            <a:endCxn id="1817" idx="2"/>
          </p:cNvCxnSpPr>
          <p:nvPr/>
        </p:nvCxnSpPr>
        <p:spPr>
          <a:xfrm flipV="1">
            <a:off x="1777680" y="5368320"/>
            <a:ext cx="2267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1" name=""/>
          <p:cNvCxnSpPr>
            <a:stCxn id="1815" idx="5"/>
            <a:endCxn id="1816" idx="1"/>
          </p:cNvCxnSpPr>
          <p:nvPr/>
        </p:nvCxnSpPr>
        <p:spPr>
          <a:xfrm>
            <a:off x="1701360" y="3025800"/>
            <a:ext cx="97236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2" name=""/>
          <p:cNvCxnSpPr>
            <a:stCxn id="1817" idx="0"/>
            <a:endCxn id="1818" idx="4"/>
          </p:cNvCxnSpPr>
          <p:nvPr/>
        </p:nvCxnSpPr>
        <p:spPr>
          <a:xfrm flipH="1" flipV="1">
            <a:off x="4206240" y="3092040"/>
            <a:ext cx="76680" cy="2039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3" name=""/>
          <p:cNvCxnSpPr>
            <a:stCxn id="1814" idx="7"/>
            <a:endCxn id="1816" idx="3"/>
          </p:cNvCxnSpPr>
          <p:nvPr/>
        </p:nvCxnSpPr>
        <p:spPr>
          <a:xfrm flipV="1">
            <a:off x="1701360" y="4244760"/>
            <a:ext cx="972360" cy="1028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4" name=""/>
          <p:cNvCxnSpPr>
            <a:stCxn id="1815" idx="6"/>
            <a:endCxn id="1818" idx="2"/>
          </p:cNvCxnSpPr>
          <p:nvPr/>
        </p:nvCxnSpPr>
        <p:spPr>
          <a:xfrm>
            <a:off x="1777680" y="2854080"/>
            <a:ext cx="21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5" name=""/>
          <p:cNvCxnSpPr>
            <a:stCxn id="1817" idx="1"/>
            <a:endCxn id="1816" idx="5"/>
          </p:cNvCxnSpPr>
          <p:nvPr/>
        </p:nvCxnSpPr>
        <p:spPr>
          <a:xfrm flipH="1" flipV="1">
            <a:off x="2997000" y="4244400"/>
            <a:ext cx="1124640" cy="952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26" name=""/>
          <p:cNvCxnSpPr>
            <a:stCxn id="1818" idx="3"/>
            <a:endCxn id="1816" idx="7"/>
          </p:cNvCxnSpPr>
          <p:nvPr/>
        </p:nvCxnSpPr>
        <p:spPr>
          <a:xfrm flipH="1">
            <a:off x="2997000" y="3025800"/>
            <a:ext cx="1048320" cy="8769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827" name=""/>
          <p:cNvSpPr/>
          <p:nvPr/>
        </p:nvSpPr>
        <p:spPr>
          <a:xfrm>
            <a:off x="1236960" y="3768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"/>
          <p:cNvSpPr/>
          <p:nvPr/>
        </p:nvSpPr>
        <p:spPr>
          <a:xfrm>
            <a:off x="2102040" y="460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9" name=""/>
          <p:cNvSpPr/>
          <p:nvPr/>
        </p:nvSpPr>
        <p:spPr>
          <a:xfrm>
            <a:off x="3245040" y="460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0" name=""/>
          <p:cNvSpPr/>
          <p:nvPr/>
        </p:nvSpPr>
        <p:spPr>
          <a:xfrm>
            <a:off x="2711880" y="536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1" name=""/>
          <p:cNvSpPr/>
          <p:nvPr/>
        </p:nvSpPr>
        <p:spPr>
          <a:xfrm>
            <a:off x="4235760" y="384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"/>
          <p:cNvSpPr/>
          <p:nvPr/>
        </p:nvSpPr>
        <p:spPr>
          <a:xfrm>
            <a:off x="3218040" y="3083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"/>
          <p:cNvSpPr/>
          <p:nvPr/>
        </p:nvSpPr>
        <p:spPr>
          <a:xfrm>
            <a:off x="2151360" y="315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4" name=""/>
          <p:cNvSpPr/>
          <p:nvPr/>
        </p:nvSpPr>
        <p:spPr>
          <a:xfrm>
            <a:off x="2787840" y="2397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5" name=""/>
          <p:cNvGraphicFramePr/>
          <p:nvPr/>
        </p:nvGraphicFramePr>
        <p:xfrm>
          <a:off x="5943600" y="3581280"/>
          <a:ext cx="2361960" cy="203220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標楷體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6" name=""/>
          <p:cNvSpPr/>
          <p:nvPr/>
        </p:nvSpPr>
        <p:spPr>
          <a:xfrm>
            <a:off x="6866640" y="30481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B01C-3B9F-4717-8B37-CDC8F92A715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"/>
          <p:cNvSpPr/>
          <p:nvPr/>
        </p:nvSpPr>
        <p:spPr>
          <a:xfrm>
            <a:off x="1447920" y="1828800"/>
            <a:ext cx="6553080" cy="39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gorit</a:t>
            </a: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lPa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{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vorovi s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…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or 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ertex pairs (i,j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lse i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n edge i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eight of ed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in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k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k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,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k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,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9" name=""/>
          <p:cNvSpPr/>
          <p:nvPr/>
        </p:nvSpPr>
        <p:spPr>
          <a:xfrm>
            <a:off x="6858720" y="2590920"/>
            <a:ext cx="116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+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"/>
          <p:cNvSpPr/>
          <p:nvPr/>
        </p:nvSpPr>
        <p:spPr>
          <a:xfrm>
            <a:off x="7094520" y="4343400"/>
            <a:ext cx="84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Flojdov 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7507-278C-4AAB-B2FA-5C44589CA3D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Minimalno drvo razapinjanj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Minimum spanning 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DD3D-A16B-436F-9047-B6F5BCC4893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MS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dati gra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(V,E)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rediti drv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(V,E’), E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ako da je suma težina grana drveta T minima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e naziva minimalnim drvetom razapinjanja grafa G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imum spanning t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mal spanning tr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33BE-AD80-4391-B6CB-F8416B90BDE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MST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0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1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2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3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4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5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56" name=""/>
          <p:cNvCxnSpPr>
            <a:stCxn id="1850" idx="6"/>
            <a:endCxn id="1853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7" name=""/>
          <p:cNvCxnSpPr>
            <a:stCxn id="1853" idx="6"/>
            <a:endCxn id="1848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8" name=""/>
          <p:cNvCxnSpPr>
            <a:stCxn id="1849" idx="6"/>
            <a:endCxn id="1852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9" name=""/>
          <p:cNvCxnSpPr>
            <a:stCxn id="1852" idx="6"/>
            <a:endCxn id="1855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0" name=""/>
          <p:cNvCxnSpPr>
            <a:stCxn id="1850" idx="4"/>
            <a:endCxn id="1849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1" name=""/>
          <p:cNvCxnSpPr>
            <a:stCxn id="1848" idx="4"/>
            <a:endCxn id="1855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2" name=""/>
          <p:cNvCxnSpPr>
            <a:stCxn id="1849" idx="7"/>
            <a:endCxn id="1854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3" name=""/>
          <p:cNvCxnSpPr>
            <a:stCxn id="1854" idx="7"/>
            <a:endCxn id="1853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4" name=""/>
          <p:cNvCxnSpPr>
            <a:stCxn id="1853" idx="5"/>
            <a:endCxn id="1855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5" name=""/>
          <p:cNvCxnSpPr>
            <a:stCxn id="1854" idx="5"/>
            <a:endCxn id="1852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6" name=""/>
          <p:cNvCxnSpPr>
            <a:stCxn id="1851" idx="7"/>
            <a:endCxn id="1850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7" name=""/>
          <p:cNvCxnSpPr>
            <a:stCxn id="1851" idx="5"/>
            <a:endCxn id="1849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8" name=""/>
          <p:cNvCxnSpPr>
            <a:stCxn id="1855" idx="7"/>
            <a:endCxn id="1847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9" name=""/>
          <p:cNvCxnSpPr>
            <a:stCxn id="1848" idx="5"/>
            <a:endCxn id="1847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0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1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2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3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4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5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7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8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9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0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5D9-A9DB-442B-A42D-99CE4494403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MST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94" name=""/>
          <p:cNvCxnSpPr>
            <a:stCxn id="1888" idx="6"/>
            <a:endCxn id="1891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895" name=""/>
          <p:cNvCxnSpPr>
            <a:stCxn id="1891" idx="6"/>
            <a:endCxn id="1886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896" name=""/>
          <p:cNvCxnSpPr>
            <a:stCxn id="1887" idx="6"/>
            <a:endCxn id="1890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897" name=""/>
          <p:cNvCxnSpPr>
            <a:stCxn id="1890" idx="6"/>
            <a:endCxn id="1893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898" name=""/>
          <p:cNvCxnSpPr>
            <a:stCxn id="1888" idx="4"/>
            <a:endCxn id="1887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9" name=""/>
          <p:cNvCxnSpPr>
            <a:stCxn id="1886" idx="4"/>
            <a:endCxn id="1893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0" name=""/>
          <p:cNvCxnSpPr>
            <a:stCxn id="1887" idx="7"/>
            <a:endCxn id="1892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1" name=""/>
          <p:cNvCxnSpPr>
            <a:stCxn id="1892" idx="7"/>
            <a:endCxn id="1891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02" name=""/>
          <p:cNvCxnSpPr>
            <a:stCxn id="1891" idx="5"/>
            <a:endCxn id="1893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03" name=""/>
          <p:cNvCxnSpPr>
            <a:stCxn id="1892" idx="5"/>
            <a:endCxn id="1890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4" name=""/>
          <p:cNvCxnSpPr>
            <a:stCxn id="1889" idx="7"/>
            <a:endCxn id="1888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05" name=""/>
          <p:cNvCxnSpPr>
            <a:stCxn id="1889" idx="5"/>
            <a:endCxn id="1887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6" name=""/>
          <p:cNvCxnSpPr>
            <a:stCxn id="1893" idx="7"/>
            <a:endCxn id="1885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7" name=""/>
          <p:cNvCxnSpPr>
            <a:stCxn id="1886" idx="5"/>
            <a:endCxn id="1885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908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4396-6855-4FB5-B147-0897F799501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Examp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8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9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2" name=""/>
          <p:cNvCxnSpPr>
            <a:stCxn id="1926" idx="6"/>
            <a:endCxn id="1929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3" name=""/>
          <p:cNvCxnSpPr>
            <a:stCxn id="1929" idx="6"/>
            <a:endCxn id="1924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4" name=""/>
          <p:cNvCxnSpPr>
            <a:stCxn id="1925" idx="6"/>
            <a:endCxn id="1928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5" name=""/>
          <p:cNvCxnSpPr>
            <a:stCxn id="1928" idx="6"/>
            <a:endCxn id="1931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6" name=""/>
          <p:cNvCxnSpPr>
            <a:stCxn id="1926" idx="4"/>
            <a:endCxn id="1925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7" name=""/>
          <p:cNvCxnSpPr>
            <a:stCxn id="1924" idx="4"/>
            <a:endCxn id="1931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8" name=""/>
          <p:cNvCxnSpPr>
            <a:stCxn id="1925" idx="7"/>
            <a:endCxn id="1930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9" name=""/>
          <p:cNvCxnSpPr>
            <a:stCxn id="1930" idx="7"/>
            <a:endCxn id="1929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0" name=""/>
          <p:cNvCxnSpPr>
            <a:stCxn id="1929" idx="5"/>
            <a:endCxn id="1931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1" name=""/>
          <p:cNvCxnSpPr>
            <a:stCxn id="1930" idx="5"/>
            <a:endCxn id="1928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2" name=""/>
          <p:cNvCxnSpPr>
            <a:stCxn id="1927" idx="7"/>
            <a:endCxn id="1926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3" name=""/>
          <p:cNvCxnSpPr>
            <a:stCxn id="1927" idx="5"/>
            <a:endCxn id="1925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4" name=""/>
          <p:cNvCxnSpPr>
            <a:stCxn id="1931" idx="7"/>
            <a:endCxn id="1923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5" name=""/>
          <p:cNvCxnSpPr>
            <a:stCxn id="1924" idx="5"/>
            <a:endCxn id="1923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46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7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8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9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6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8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9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86B9-C256-422C-97FD-7A7B4C83F2C5}" type="slidenum">
              <a:t>56</a:t>
            </a:fld>
          </a:p>
        </p:txBody>
      </p:sp>
    </p:spTree>
  </p:cSld>
  <p:transition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Examp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70" name=""/>
          <p:cNvCxnSpPr>
            <a:stCxn id="1964" idx="6"/>
            <a:endCxn id="196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71" name=""/>
          <p:cNvCxnSpPr>
            <a:stCxn id="1967" idx="6"/>
            <a:endCxn id="196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72" name=""/>
          <p:cNvCxnSpPr>
            <a:stCxn id="1963" idx="6"/>
            <a:endCxn id="196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73" name=""/>
          <p:cNvCxnSpPr>
            <a:stCxn id="1966" idx="6"/>
            <a:endCxn id="196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74" name=""/>
          <p:cNvCxnSpPr>
            <a:stCxn id="1964" idx="4"/>
            <a:endCxn id="196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5" name=""/>
          <p:cNvCxnSpPr>
            <a:stCxn id="1962" idx="4"/>
            <a:endCxn id="196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6" name=""/>
          <p:cNvCxnSpPr>
            <a:stCxn id="1963" idx="7"/>
            <a:endCxn id="196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7" name=""/>
          <p:cNvCxnSpPr>
            <a:stCxn id="1968" idx="7"/>
            <a:endCxn id="196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78" name=""/>
          <p:cNvCxnSpPr>
            <a:stCxn id="1967" idx="5"/>
            <a:endCxn id="196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79" name=""/>
          <p:cNvCxnSpPr>
            <a:stCxn id="1968" idx="5"/>
            <a:endCxn id="196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0" name=""/>
          <p:cNvCxnSpPr>
            <a:stCxn id="1965" idx="7"/>
            <a:endCxn id="196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981" name=""/>
          <p:cNvCxnSpPr>
            <a:stCxn id="1965" idx="5"/>
            <a:endCxn id="196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2" name=""/>
          <p:cNvCxnSpPr>
            <a:stCxn id="1969" idx="7"/>
            <a:endCxn id="196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3" name=""/>
          <p:cNvCxnSpPr>
            <a:stCxn id="1962" idx="5"/>
            <a:endCxn id="196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98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4B61-F302-40FF-B8FC-A605E202A4A1}" type="slidenum">
              <a:t>57</a:t>
            </a:fld>
          </a:p>
        </p:txBody>
      </p:sp>
    </p:spTree>
  </p:cSld>
  <p:transition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ov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690480" y="1827360"/>
            <a:ext cx="8007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MST-Kruskal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graph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G, w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V[G]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MakeSe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ort the edges of E[G] by nondecreasing weight 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u,v)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E[G], in order by nondecreasing weight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FindSe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u)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FindSet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v)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{(u,v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Unio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CC95-1EC1-4C32-A50A-630BB15070FB}" type="slidenum">
              <a:t>58</a:t>
            </a:fld>
          </a:p>
        </p:txBody>
      </p:sp>
    </p:spTree>
  </p:cSld>
  <p:transition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10" name=""/>
          <p:cNvCxnSpPr>
            <a:stCxn id="2004" idx="6"/>
            <a:endCxn id="200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1" name=""/>
          <p:cNvCxnSpPr>
            <a:stCxn id="2007" idx="6"/>
            <a:endCxn id="200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2" name=""/>
          <p:cNvCxnSpPr>
            <a:stCxn id="2003" idx="6"/>
            <a:endCxn id="200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3" name=""/>
          <p:cNvCxnSpPr>
            <a:stCxn id="2006" idx="6"/>
            <a:endCxn id="200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4" name=""/>
          <p:cNvCxnSpPr>
            <a:stCxn id="2004" idx="4"/>
            <a:endCxn id="200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5" name=""/>
          <p:cNvCxnSpPr>
            <a:stCxn id="2002" idx="4"/>
            <a:endCxn id="200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6" name=""/>
          <p:cNvCxnSpPr>
            <a:stCxn id="2003" idx="7"/>
            <a:endCxn id="200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7" name=""/>
          <p:cNvCxnSpPr>
            <a:stCxn id="2008" idx="7"/>
            <a:endCxn id="200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8" name=""/>
          <p:cNvCxnSpPr>
            <a:stCxn id="2007" idx="5"/>
            <a:endCxn id="200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9" name=""/>
          <p:cNvCxnSpPr>
            <a:stCxn id="2008" idx="5"/>
            <a:endCxn id="200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0" name=""/>
          <p:cNvCxnSpPr>
            <a:stCxn id="2005" idx="7"/>
            <a:endCxn id="200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1" name=""/>
          <p:cNvCxnSpPr>
            <a:stCxn id="2005" idx="5"/>
            <a:endCxn id="200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2" name=""/>
          <p:cNvCxnSpPr>
            <a:stCxn id="2009" idx="7"/>
            <a:endCxn id="200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3" name=""/>
          <p:cNvCxnSpPr>
            <a:stCxn id="2002" idx="5"/>
            <a:endCxn id="200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576C-7B81-4F0E-8147-FCC8DB9558D5}" type="slidenum">
              <a:t>59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 3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500960" y="2835360"/>
            <a:ext cx="1447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s O(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2163600" y="5154480"/>
            <a:ext cx="1296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1376280" y="5154480"/>
            <a:ext cx="78732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1757520" y="6006960"/>
            <a:ext cx="2520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1757520" y="4952880"/>
            <a:ext cx="2520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1389240" y="4965840"/>
            <a:ext cx="787320" cy="1038240"/>
          </a:xfrm>
          <a:custGeom>
            <a:avLst/>
            <a:gdLst>
              <a:gd name="textAreaLeft" fmla="*/ 62640 w 787320"/>
              <a:gd name="textAreaRight" fmla="*/ 724680 w 787320"/>
              <a:gd name="textAreaTop" fmla="*/ 62640 h 1038240"/>
              <a:gd name="textAreaBottom" fmla="*/ 975600 h 1038240"/>
            </a:gdLst>
            <a:ahLst/>
            <a:rect l="textAreaLeft" t="textAreaTop" r="textAreaRight" b="textAreaBottom"/>
            <a:pathLst>
              <a:path w="21600" h="28481">
                <a:moveTo>
                  <a:pt x="5891" y="0"/>
                </a:moveTo>
                <a:arcTo wR="5891" hR="5891" stAng="16200000" swAng="-5400000"/>
                <a:lnTo>
                  <a:pt x="0" y="22590"/>
                </a:lnTo>
                <a:arcTo wR="5891" hR="5891" stAng="10800000" swAng="-5400000"/>
                <a:lnTo>
                  <a:pt x="15709" y="28481"/>
                </a:lnTo>
                <a:arcTo wR="5891" hR="5891" stAng="5400000" swAng="-5400000"/>
                <a:lnTo>
                  <a:pt x="21600" y="5891"/>
                </a:lnTo>
                <a:arcTo wR="5891" hR="5891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53612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185472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226224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3087720" y="5154480"/>
            <a:ext cx="1116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2274840" y="5154480"/>
            <a:ext cx="81288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2668680" y="6006960"/>
            <a:ext cx="2376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2668680" y="4952880"/>
            <a:ext cx="2376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2287440" y="4965840"/>
            <a:ext cx="798840" cy="1038240"/>
          </a:xfrm>
          <a:custGeom>
            <a:avLst/>
            <a:gdLst>
              <a:gd name="textAreaLeft" fmla="*/ 62640 w 798840"/>
              <a:gd name="textAreaRight" fmla="*/ 736200 w 798840"/>
              <a:gd name="textAreaTop" fmla="*/ 62640 h 1038240"/>
              <a:gd name="textAreaBottom" fmla="*/ 975600 h 1038240"/>
            </a:gdLst>
            <a:ahLst/>
            <a:rect l="textAreaLeft" t="textAreaTop" r="textAreaRight" b="textAreaBottom"/>
            <a:pathLst>
              <a:path w="21600" h="28070">
                <a:moveTo>
                  <a:pt x="5803" y="0"/>
                </a:moveTo>
                <a:arcTo wR="5803" hR="5803" stAng="16200000" swAng="-5400000"/>
                <a:lnTo>
                  <a:pt x="0" y="22267"/>
                </a:lnTo>
                <a:arcTo wR="5803" hR="5803" stAng="10800000" swAng="-5400000"/>
                <a:lnTo>
                  <a:pt x="15797" y="28070"/>
                </a:lnTo>
                <a:arcTo wR="5803" hR="5803" stAng="5400000" swAng="-5400000"/>
                <a:lnTo>
                  <a:pt x="21600" y="5803"/>
                </a:lnTo>
                <a:arcTo wR="5803" hR="5803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>
            <a:off x="243432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276588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317340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399744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3186000" y="5154480"/>
            <a:ext cx="81144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579840" y="6006960"/>
            <a:ext cx="2376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3579840" y="4952880"/>
            <a:ext cx="2376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186000" y="4965840"/>
            <a:ext cx="811440" cy="1038240"/>
          </a:xfrm>
          <a:custGeom>
            <a:avLst/>
            <a:gdLst>
              <a:gd name="textAreaLeft" fmla="*/ 62640 w 811440"/>
              <a:gd name="textAreaRight" fmla="*/ 748800 w 811440"/>
              <a:gd name="textAreaTop" fmla="*/ 62640 h 1038240"/>
              <a:gd name="textAreaBottom" fmla="*/ 975600 h 1038240"/>
            </a:gdLst>
            <a:ahLst/>
            <a:rect l="textAreaLeft" t="textAreaTop" r="textAreaRight" b="textAreaBottom"/>
            <a:pathLst>
              <a:path w="21600" h="27635">
                <a:moveTo>
                  <a:pt x="5718" y="0"/>
                </a:moveTo>
                <a:arcTo wR="5718" hR="5718" stAng="16200000" swAng="-5400000"/>
                <a:lnTo>
                  <a:pt x="0" y="21917"/>
                </a:lnTo>
                <a:arcTo wR="5718" hR="5718" stAng="10800000" swAng="-5400000"/>
                <a:lnTo>
                  <a:pt x="15882" y="27635"/>
                </a:lnTo>
                <a:arcTo wR="5718" hR="5718" stAng="5400000" swAng="-5400000"/>
                <a:lnTo>
                  <a:pt x="21600" y="5718"/>
                </a:lnTo>
                <a:arcTo wR="5718" hR="5718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333288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367704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>
            <a:off x="4127400" y="5824440"/>
            <a:ext cx="1116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489600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4095720" y="5154480"/>
            <a:ext cx="80028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4478400" y="6006960"/>
            <a:ext cx="2376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4478400" y="4952880"/>
            <a:ext cx="2376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4097160" y="4965840"/>
            <a:ext cx="798840" cy="1038240"/>
          </a:xfrm>
          <a:custGeom>
            <a:avLst/>
            <a:gdLst>
              <a:gd name="textAreaLeft" fmla="*/ 62640 w 798840"/>
              <a:gd name="textAreaRight" fmla="*/ 736200 w 798840"/>
              <a:gd name="textAreaTop" fmla="*/ 62640 h 1038240"/>
              <a:gd name="textAreaBottom" fmla="*/ 975600 h 1038240"/>
            </a:gdLst>
            <a:ahLst/>
            <a:rect l="textAreaLeft" t="textAreaTop" r="textAreaRight" b="textAreaBottom"/>
            <a:pathLst>
              <a:path w="21600" h="28070">
                <a:moveTo>
                  <a:pt x="5803" y="0"/>
                </a:moveTo>
                <a:arcTo wR="5803" hR="5803" stAng="16200000" swAng="-5400000"/>
                <a:lnTo>
                  <a:pt x="0" y="22267"/>
                </a:lnTo>
                <a:arcTo wR="5803" hR="5803" stAng="10800000" swAng="-5400000"/>
                <a:lnTo>
                  <a:pt x="15797" y="28070"/>
                </a:lnTo>
                <a:arcTo wR="5803" hR="5803" stAng="5400000" swAng="-5400000"/>
                <a:lnTo>
                  <a:pt x="21600" y="5803"/>
                </a:lnTo>
                <a:arcTo wR="5803" hR="5803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424260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457560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495792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5832360" y="5154480"/>
            <a:ext cx="1116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>
            <a:off x="4970520" y="5154480"/>
            <a:ext cx="86184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>
            <a:off x="5388120" y="6006960"/>
            <a:ext cx="2520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5388120" y="4952880"/>
            <a:ext cx="2520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4983120" y="4965840"/>
            <a:ext cx="847800" cy="1038240"/>
          </a:xfrm>
          <a:custGeom>
            <a:avLst/>
            <a:gdLst>
              <a:gd name="textAreaLeft" fmla="*/ 62640 w 847800"/>
              <a:gd name="textAreaRight" fmla="*/ 785160 w 847800"/>
              <a:gd name="textAreaTop" fmla="*/ 62640 h 1038240"/>
              <a:gd name="textAreaBottom" fmla="*/ 975600 h 1038240"/>
            </a:gdLst>
            <a:ahLst/>
            <a:rect l="textAreaLeft" t="textAreaTop" r="textAreaRight" b="textAreaBottom"/>
            <a:pathLst>
              <a:path w="21600" h="26450">
                <a:moveTo>
                  <a:pt x="5476" y="0"/>
                </a:moveTo>
                <a:arcTo wR="5476" hR="5476" stAng="16200000" swAng="-5400000"/>
                <a:lnTo>
                  <a:pt x="0" y="20974"/>
                </a:lnTo>
                <a:arcTo wR="5476" hR="5476" stAng="10800000" swAng="-5400000"/>
                <a:lnTo>
                  <a:pt x="16124" y="26450"/>
                </a:lnTo>
                <a:arcTo wR="5476" hR="5476" stAng="5400000" swAng="-5400000"/>
                <a:lnTo>
                  <a:pt x="21600" y="5476"/>
                </a:lnTo>
                <a:arcTo wR="5476" hR="5476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514116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549792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589284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671832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"/>
          <p:cNvSpPr/>
          <p:nvPr/>
        </p:nvSpPr>
        <p:spPr>
          <a:xfrm>
            <a:off x="5905440" y="5154480"/>
            <a:ext cx="81288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6299280" y="6006960"/>
            <a:ext cx="2520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"/>
          <p:cNvSpPr/>
          <p:nvPr/>
        </p:nvSpPr>
        <p:spPr>
          <a:xfrm>
            <a:off x="6299280" y="4952880"/>
            <a:ext cx="2520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5905440" y="4965840"/>
            <a:ext cx="812880" cy="1038240"/>
          </a:xfrm>
          <a:custGeom>
            <a:avLst/>
            <a:gdLst>
              <a:gd name="textAreaLeft" fmla="*/ 63000 w 812880"/>
              <a:gd name="textAreaRight" fmla="*/ 749880 w 812880"/>
              <a:gd name="textAreaTop" fmla="*/ 63000 h 1038240"/>
              <a:gd name="textAreaBottom" fmla="*/ 975240 h 1038240"/>
            </a:gdLst>
            <a:ahLst/>
            <a:rect l="textAreaLeft" t="textAreaTop" r="textAreaRight" b="textAreaBottom"/>
            <a:pathLst>
              <a:path w="21600" h="27586">
                <a:moveTo>
                  <a:pt x="5718" y="0"/>
                </a:moveTo>
                <a:arcTo wR="5718" hR="5718" stAng="16200000" swAng="-5400000"/>
                <a:lnTo>
                  <a:pt x="0" y="21868"/>
                </a:lnTo>
                <a:arcTo wR="5718" hR="5718" stAng="10800000" swAng="-5400000"/>
                <a:lnTo>
                  <a:pt x="15882" y="27586"/>
                </a:lnTo>
                <a:arcTo wR="5718" hR="5718" stAng="5400000" swAng="-5400000"/>
                <a:lnTo>
                  <a:pt x="21600" y="5718"/>
                </a:lnTo>
                <a:arcTo wR="5718" hR="5718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605232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639648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679140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7628040" y="5154480"/>
            <a:ext cx="1260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5154480"/>
            <a:ext cx="824040" cy="1764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7197840" y="6006960"/>
            <a:ext cx="25200" cy="972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7197840" y="4952880"/>
            <a:ext cx="25200" cy="1054080"/>
          </a:xfrm>
          <a:prstGeom prst="rect">
            <a:avLst/>
          </a:prstGeom>
          <a:solidFill>
            <a:srgbClr val="00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"/>
          <p:cNvSpPr/>
          <p:nvPr/>
        </p:nvSpPr>
        <p:spPr>
          <a:xfrm>
            <a:off x="6804000" y="4965840"/>
            <a:ext cx="824040" cy="1038240"/>
          </a:xfrm>
          <a:custGeom>
            <a:avLst/>
            <a:gdLst>
              <a:gd name="textAreaLeft" fmla="*/ 62640 w 824040"/>
              <a:gd name="textAreaRight" fmla="*/ 761400 w 824040"/>
              <a:gd name="textAreaTop" fmla="*/ 62640 h 1038240"/>
              <a:gd name="textAreaBottom" fmla="*/ 975600 h 1038240"/>
            </a:gdLst>
            <a:ahLst/>
            <a:rect l="textAreaLeft" t="textAreaTop" r="textAreaRight" b="textAreaBottom"/>
            <a:pathLst>
              <a:path w="21600" h="27212">
                <a:moveTo>
                  <a:pt x="5635" y="0"/>
                </a:moveTo>
                <a:arcTo wR="5635" hR="5635" stAng="16200000" swAng="-5400000"/>
                <a:lnTo>
                  <a:pt x="0" y="21577"/>
                </a:lnTo>
                <a:arcTo wR="5635" hR="5635" stAng="10800000" swAng="-5400000"/>
                <a:lnTo>
                  <a:pt x="15965" y="27212"/>
                </a:lnTo>
                <a:arcTo wR="5635" hR="5635" stAng="5400000" swAng="-5400000"/>
                <a:lnTo>
                  <a:pt x="21600" y="5635"/>
                </a:lnTo>
                <a:arcTo wR="5635" hR="5635" stAng="0" swAng="-5400000"/>
                <a:close/>
              </a:path>
            </a:pathLst>
          </a:custGeom>
          <a:noFill/>
          <a:ln w="2556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"/>
          <p:cNvSpPr/>
          <p:nvPr/>
        </p:nvSpPr>
        <p:spPr>
          <a:xfrm>
            <a:off x="6963480" y="5011560"/>
            <a:ext cx="9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"/>
          <p:cNvSpPr/>
          <p:nvPr/>
        </p:nvSpPr>
        <p:spPr>
          <a:xfrm>
            <a:off x="7307640" y="5011560"/>
            <a:ext cx="14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f00"/>
                </a:solidFill>
                <a:latin typeface="Times New Roman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"/>
          <p:cNvSpPr/>
          <p:nvPr/>
        </p:nvSpPr>
        <p:spPr>
          <a:xfrm>
            <a:off x="1819440" y="5265720"/>
            <a:ext cx="127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NW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"/>
          <p:cNvSpPr/>
          <p:nvPr/>
        </p:nvSpPr>
        <p:spPr>
          <a:xfrm>
            <a:off x="2015280" y="526572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35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805760" y="5477040"/>
            <a:ext cx="102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DL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1953360" y="547704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247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2360880" y="526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>
            <a:off x="2520360" y="526572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49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2337120" y="5477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2494800" y="547704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41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2631600" y="5477040"/>
            <a:ext cx="3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2718000" y="526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U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2877480" y="526572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120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3210120" y="5265720"/>
            <a:ext cx="26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1387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>
            <a:off x="3235680" y="56786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"/>
          <p:cNvSpPr/>
          <p:nvPr/>
        </p:nvSpPr>
        <p:spPr>
          <a:xfrm>
            <a:off x="3393360" y="567864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523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3235680" y="5477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U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"/>
          <p:cNvSpPr/>
          <p:nvPr/>
        </p:nvSpPr>
        <p:spPr>
          <a:xfrm>
            <a:off x="3393360" y="547704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877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"/>
          <p:cNvSpPr/>
          <p:nvPr/>
        </p:nvSpPr>
        <p:spPr>
          <a:xfrm>
            <a:off x="3639600" y="5265720"/>
            <a:ext cx="217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DL335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3652920" y="5477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3812400" y="547704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49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4157640" y="5265720"/>
            <a:ext cx="127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NW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4341240" y="526572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35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4528080" y="5265720"/>
            <a:ext cx="262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1387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4527720" y="5477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4685760" y="547704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903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4563000" y="567864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TW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4734720" y="567864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45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5042880" y="5265720"/>
            <a:ext cx="102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DL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"/>
          <p:cNvSpPr/>
          <p:nvPr/>
        </p:nvSpPr>
        <p:spPr>
          <a:xfrm>
            <a:off x="5190480" y="526572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247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5019840" y="5477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"/>
          <p:cNvSpPr/>
          <p:nvPr/>
        </p:nvSpPr>
        <p:spPr>
          <a:xfrm>
            <a:off x="5179320" y="547704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903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5463000" y="5265720"/>
            <a:ext cx="224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523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5450040" y="5477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A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609520" y="547704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41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5744880" y="5477040"/>
            <a:ext cx="3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5931000" y="526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U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6089040" y="526572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120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>
            <a:off x="5941440" y="5477040"/>
            <a:ext cx="102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DL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6089040" y="547704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335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6348600" y="526572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UA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6508080" y="5265720"/>
            <a:ext cx="135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877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6877800" y="526572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TW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7049520" y="5265720"/>
            <a:ext cx="96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ff9900"/>
                </a:solidFill>
                <a:latin typeface="Times New Roman"/>
              </a:rPr>
              <a:t>45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447920" y="1600200"/>
            <a:ext cx="6510600" cy="3063600"/>
            <a:chOff x="1447920" y="1600200"/>
            <a:chExt cx="6510600" cy="3063600"/>
          </a:xfrm>
        </p:grpSpPr>
        <p:sp>
          <p:nvSpPr>
            <p:cNvPr id="559" name=""/>
            <p:cNvSpPr/>
            <p:nvPr/>
          </p:nvSpPr>
          <p:spPr>
            <a:xfrm>
              <a:off x="1447920" y="1600200"/>
              <a:ext cx="6200640" cy="987480"/>
            </a:xfrm>
            <a:prstGeom prst="roundRect">
              <a:avLst>
                <a:gd name="adj" fmla="val 2608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447920" y="1601640"/>
              <a:ext cx="6200640" cy="984240"/>
            </a:xfrm>
            <a:prstGeom prst="roundRect">
              <a:avLst>
                <a:gd name="adj" fmla="val 25352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886040" y="1942920"/>
              <a:ext cx="15840" cy="4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145280" y="1942920"/>
              <a:ext cx="32040" cy="4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01880" y="1942920"/>
              <a:ext cx="5243400" cy="4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658880" y="3690720"/>
              <a:ext cx="5729400" cy="973080"/>
            </a:xfrm>
            <a:prstGeom prst="roundRect">
              <a:avLst>
                <a:gd name="adj" fmla="val 26472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58880" y="3692520"/>
              <a:ext cx="5729400" cy="969840"/>
            </a:xfrm>
            <a:prstGeom prst="roundRect">
              <a:avLst>
                <a:gd name="adj" fmla="val 25713"/>
              </a:avLst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016360" y="4176720"/>
              <a:ext cx="1584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145280" y="4176720"/>
              <a:ext cx="3204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32200" y="4176720"/>
              <a:ext cx="511308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11720" y="3948120"/>
              <a:ext cx="53640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411720" y="3949560"/>
              <a:ext cx="53640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427200" y="40780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DF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08200" y="3948120"/>
              <a:ext cx="53496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08200" y="3949560"/>
              <a:ext cx="53496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55000" y="40780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B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77080" y="3948120"/>
              <a:ext cx="51912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75640" y="3949560"/>
              <a:ext cx="52056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1840" y="40780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OR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16680" y="3948120"/>
              <a:ext cx="53496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14880" y="3949560"/>
              <a:ext cx="53676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64920" y="4078080"/>
              <a:ext cx="39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MI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20200" y="3948120"/>
              <a:ext cx="53640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820200" y="3949560"/>
              <a:ext cx="53640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868800" y="407808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SF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72120" y="3948120"/>
              <a:ext cx="51912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72120" y="3949560"/>
              <a:ext cx="51912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336920" y="40780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JF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68600" y="3948120"/>
              <a:ext cx="534960" cy="47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567160" y="3949560"/>
              <a:ext cx="536400" cy="4698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84080" y="4078080"/>
              <a:ext cx="41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LA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097360" y="17859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097360" y="1787400"/>
              <a:ext cx="4554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112840" y="187164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DL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91040" y="18716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247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08320" y="20714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08320" y="24019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08320" y="20858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6532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551320" y="2071440"/>
              <a:ext cx="1728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081160" y="2071440"/>
              <a:ext cx="4701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200400" y="1785960"/>
              <a:ext cx="4716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200400" y="17874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33520" y="187164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DL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394080" y="18716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335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411720" y="2071440"/>
              <a:ext cx="3312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11720" y="2401920"/>
              <a:ext cx="3312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411720" y="2085840"/>
              <a:ext cx="3312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8456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5616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200400" y="2071440"/>
              <a:ext cx="4557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543720" y="1785960"/>
              <a:ext cx="4557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543720" y="1787400"/>
              <a:ext cx="4557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56136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U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737400" y="18716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877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55040" y="2071440"/>
              <a:ext cx="3312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55040" y="2401920"/>
              <a:ext cx="3312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55040" y="2085840"/>
              <a:ext cx="3312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51204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99948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527880" y="2071440"/>
              <a:ext cx="4716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528920" y="1785960"/>
              <a:ext cx="4716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528920" y="17874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577880" y="1871640"/>
              <a:ext cx="19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NW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88120" y="18716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39880" y="20714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39880" y="24019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39880" y="20858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51308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00052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528920" y="2071440"/>
              <a:ext cx="4716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321440" y="17859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321440" y="1787400"/>
              <a:ext cx="4539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3728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513320" y="18716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523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532400" y="20714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32400" y="24019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20858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287960" y="2071440"/>
              <a:ext cx="176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77540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05600" y="2071440"/>
              <a:ext cx="4698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872240" y="1785960"/>
              <a:ext cx="4554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872240" y="1787400"/>
              <a:ext cx="4554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88952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82120" y="18716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44480" y="1871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83200" y="20714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83200" y="24019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83200" y="20858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85640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2764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72240" y="2071440"/>
              <a:ext cx="4554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096320" y="17859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96320" y="1787400"/>
              <a:ext cx="4539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144920" y="1871640"/>
              <a:ext cx="17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TW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37880" y="18716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07280" y="20714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307280" y="24019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307280" y="20858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08048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5028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96320" y="2071440"/>
              <a:ext cx="4539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24480" y="1785960"/>
              <a:ext cx="4701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424480" y="17874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4032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U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34000" y="18716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120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35800" y="20714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635800" y="24019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35800" y="20858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864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87880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24480" y="2071440"/>
              <a:ext cx="45432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49600" y="1785960"/>
              <a:ext cx="45396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49600" y="1787400"/>
              <a:ext cx="45396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69712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1520" y="187164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60920" y="2071440"/>
              <a:ext cx="316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860920" y="2401920"/>
              <a:ext cx="316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60920" y="2085840"/>
              <a:ext cx="316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3376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10356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49600" y="2071440"/>
              <a:ext cx="45396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977080" y="1785960"/>
              <a:ext cx="4698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975640" y="1787400"/>
              <a:ext cx="47124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9292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185160" y="18716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903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86600" y="2071440"/>
              <a:ext cx="3348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186600" y="2401920"/>
              <a:ext cx="334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186600" y="2085840"/>
              <a:ext cx="3348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59440" y="2071440"/>
              <a:ext cx="176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44688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977080" y="2071440"/>
              <a:ext cx="4698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753000" y="1785960"/>
              <a:ext cx="469800" cy="61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753000" y="1787400"/>
              <a:ext cx="471600" cy="612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737160" y="187164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AA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29040" y="1871640"/>
              <a:ext cx="26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1387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963960" y="2071440"/>
              <a:ext cx="32040" cy="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963960" y="2401920"/>
              <a:ext cx="3204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3960" y="2085840"/>
              <a:ext cx="3204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737160" y="2071440"/>
              <a:ext cx="158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222800" y="2071440"/>
              <a:ext cx="1764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753000" y="2071440"/>
              <a:ext cx="469800" cy="2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73360" y="374796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0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773360" y="374796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0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643040" y="2344680"/>
              <a:ext cx="177840" cy="14032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91120" y="379080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379080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854360" y="2330280"/>
              <a:ext cx="2368440" cy="15033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48240" y="3733560"/>
              <a:ext cx="177840" cy="171720"/>
            </a:xfrm>
            <a:custGeom>
              <a:avLst/>
              <a:gdLst/>
              <a:ahLst/>
              <a:rect l="l" t="t" r="r" b="b"/>
              <a:pathLst>
                <a:path w="112" h="108">
                  <a:moveTo>
                    <a:pt x="82" y="27"/>
                  </a:moveTo>
                  <a:lnTo>
                    <a:pt x="112" y="45"/>
                  </a:lnTo>
                  <a:lnTo>
                    <a:pt x="0" y="108"/>
                  </a:lnTo>
                  <a:lnTo>
                    <a:pt x="61" y="0"/>
                  </a:lnTo>
                  <a:lnTo>
                    <a:pt x="82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548240" y="3733560"/>
              <a:ext cx="177840" cy="171720"/>
            </a:xfrm>
            <a:custGeom>
              <a:avLst/>
              <a:gdLst/>
              <a:ahLst/>
              <a:rect l="l" t="t" r="r" b="b"/>
              <a:pathLst>
                <a:path w="112" h="108">
                  <a:moveTo>
                    <a:pt x="82" y="27"/>
                  </a:moveTo>
                  <a:lnTo>
                    <a:pt x="112" y="45"/>
                  </a:lnTo>
                  <a:lnTo>
                    <a:pt x="0" y="108"/>
                  </a:lnTo>
                  <a:lnTo>
                    <a:pt x="61" y="0"/>
                  </a:lnTo>
                  <a:lnTo>
                    <a:pt x="82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4694040" y="2330280"/>
              <a:ext cx="1428840" cy="14320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521320" y="3747960"/>
              <a:ext cx="13032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1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521320" y="3747960"/>
              <a:ext cx="13032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1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5601960" y="2315880"/>
              <a:ext cx="730440" cy="14464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11720" y="37479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31" y="18"/>
                  </a:moveTo>
                  <a:lnTo>
                    <a:pt x="72" y="0"/>
                  </a:lnTo>
                  <a:lnTo>
                    <a:pt x="82" y="117"/>
                  </a:lnTo>
                  <a:lnTo>
                    <a:pt x="0" y="27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411720" y="37479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31" y="18"/>
                  </a:moveTo>
                  <a:lnTo>
                    <a:pt x="72" y="0"/>
                  </a:lnTo>
                  <a:lnTo>
                    <a:pt x="82" y="117"/>
                  </a:lnTo>
                  <a:lnTo>
                    <a:pt x="0" y="27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62280" y="2330280"/>
              <a:ext cx="698760" cy="14320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46440" y="3719520"/>
              <a:ext cx="11448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46440" y="3719520"/>
              <a:ext cx="11448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2811600" y="2315880"/>
              <a:ext cx="195120" cy="14036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951200" y="37195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3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51200" y="37195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31" y="0"/>
                  </a:moveTo>
                  <a:lnTo>
                    <a:pt x="72" y="9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2000520" y="2330280"/>
              <a:ext cx="21096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986360" y="387648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986360" y="387648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22800" y="2330280"/>
              <a:ext cx="2595240" cy="15890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525840" y="371952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9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525840" y="3719520"/>
              <a:ext cx="112680" cy="18576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30" y="9"/>
                  </a:moveTo>
                  <a:lnTo>
                    <a:pt x="71" y="0"/>
                  </a:lnTo>
                  <a:lnTo>
                    <a:pt x="51" y="117"/>
                  </a:lnTo>
                  <a:lnTo>
                    <a:pt x="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314880" y="2330280"/>
              <a:ext cx="25884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862600" y="379080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862600" y="3790800"/>
              <a:ext cx="19548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20" y="27"/>
                  </a:moveTo>
                  <a:lnTo>
                    <a:pt x="41" y="0"/>
                  </a:lnTo>
                  <a:lnTo>
                    <a:pt x="123" y="90"/>
                  </a:lnTo>
                  <a:lnTo>
                    <a:pt x="0" y="5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41680" y="2330280"/>
              <a:ext cx="2352960" cy="15033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02080" y="3719520"/>
              <a:ext cx="11304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1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18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02080" y="3719520"/>
              <a:ext cx="11304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1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18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83320" y="2330280"/>
              <a:ext cx="56808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672000" y="37195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1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672000" y="37195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1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3737160" y="2330280"/>
              <a:ext cx="35712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50040" y="3747960"/>
              <a:ext cx="96840" cy="185760"/>
            </a:xfrm>
            <a:custGeom>
              <a:avLst/>
              <a:gdLst/>
              <a:ahLst/>
              <a:rect l="l" t="t" r="r" b="b"/>
              <a:pathLst>
                <a:path w="61" h="117">
                  <a:moveTo>
                    <a:pt x="30" y="9"/>
                  </a:moveTo>
                  <a:lnTo>
                    <a:pt x="61" y="9"/>
                  </a:lnTo>
                  <a:lnTo>
                    <a:pt x="10" y="117"/>
                  </a:lnTo>
                  <a:lnTo>
                    <a:pt x="0" y="0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350040" y="3747960"/>
              <a:ext cx="96840" cy="185760"/>
            </a:xfrm>
            <a:custGeom>
              <a:avLst/>
              <a:gdLst/>
              <a:ahLst/>
              <a:rect l="l" t="t" r="r" b="b"/>
              <a:pathLst>
                <a:path w="61" h="117">
                  <a:moveTo>
                    <a:pt x="30" y="9"/>
                  </a:moveTo>
                  <a:lnTo>
                    <a:pt x="61" y="9"/>
                  </a:lnTo>
                  <a:lnTo>
                    <a:pt x="10" y="117"/>
                  </a:lnTo>
                  <a:lnTo>
                    <a:pt x="0" y="0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6397560" y="2330280"/>
              <a:ext cx="260280" cy="14176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99160" y="384804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102" y="27"/>
                  </a:moveTo>
                  <a:lnTo>
                    <a:pt x="123" y="54"/>
                  </a:lnTo>
                  <a:lnTo>
                    <a:pt x="0" y="90"/>
                  </a:lnTo>
                  <a:lnTo>
                    <a:pt x="82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99160" y="3848040"/>
              <a:ext cx="195120" cy="142920"/>
            </a:xfrm>
            <a:custGeom>
              <a:avLst/>
              <a:gdLst/>
              <a:ahLst/>
              <a:rect l="l" t="t" r="r" b="b"/>
              <a:pathLst>
                <a:path w="123" h="90">
                  <a:moveTo>
                    <a:pt x="102" y="27"/>
                  </a:moveTo>
                  <a:lnTo>
                    <a:pt x="123" y="54"/>
                  </a:lnTo>
                  <a:lnTo>
                    <a:pt x="0" y="90"/>
                  </a:lnTo>
                  <a:lnTo>
                    <a:pt x="82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4060800" y="2344680"/>
              <a:ext cx="2857680" cy="154620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006720" y="384804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18"/>
                  </a:moveTo>
                  <a:lnTo>
                    <a:pt x="122" y="45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06720" y="384804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18"/>
                  </a:moveTo>
                  <a:lnTo>
                    <a:pt x="122" y="45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3168720" y="2330280"/>
              <a:ext cx="2386080" cy="154620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123240" y="37195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0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123240" y="37195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40" y="9"/>
                  </a:moveTo>
                  <a:lnTo>
                    <a:pt x="71" y="0"/>
                  </a:lnTo>
                  <a:lnTo>
                    <a:pt x="71" y="108"/>
                  </a:lnTo>
                  <a:lnTo>
                    <a:pt x="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65760" y="2330280"/>
              <a:ext cx="40500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116680" y="3747960"/>
              <a:ext cx="128520" cy="185760"/>
            </a:xfrm>
            <a:custGeom>
              <a:avLst/>
              <a:gdLst/>
              <a:ahLst/>
              <a:rect l="l" t="t" r="r" b="b"/>
              <a:pathLst>
                <a:path w="81" h="117">
                  <a:moveTo>
                    <a:pt x="30" y="18"/>
                  </a:moveTo>
                  <a:lnTo>
                    <a:pt x="61" y="0"/>
                  </a:lnTo>
                  <a:lnTo>
                    <a:pt x="81" y="117"/>
                  </a:lnTo>
                  <a:lnTo>
                    <a:pt x="0" y="27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16680" y="3747960"/>
              <a:ext cx="128520" cy="185760"/>
            </a:xfrm>
            <a:custGeom>
              <a:avLst/>
              <a:gdLst/>
              <a:ahLst/>
              <a:rect l="l" t="t" r="r" b="b"/>
              <a:pathLst>
                <a:path w="81" h="117">
                  <a:moveTo>
                    <a:pt x="30" y="18"/>
                  </a:moveTo>
                  <a:lnTo>
                    <a:pt x="61" y="0"/>
                  </a:lnTo>
                  <a:lnTo>
                    <a:pt x="81" y="117"/>
                  </a:lnTo>
                  <a:lnTo>
                    <a:pt x="0" y="27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434120" y="2330280"/>
              <a:ext cx="730080" cy="14320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818160" y="37479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0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818160" y="37479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51" y="18"/>
                  </a:moveTo>
                  <a:lnTo>
                    <a:pt x="82" y="27"/>
                  </a:lnTo>
                  <a:lnTo>
                    <a:pt x="0" y="117"/>
                  </a:lnTo>
                  <a:lnTo>
                    <a:pt x="20" y="0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899160" y="2344680"/>
              <a:ext cx="761760" cy="14176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278680" y="37195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0"/>
                  </a:lnTo>
                  <a:lnTo>
                    <a:pt x="61" y="108"/>
                  </a:lnTo>
                  <a:lnTo>
                    <a:pt x="0" y="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78680" y="371952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41" y="0"/>
                  </a:moveTo>
                  <a:lnTo>
                    <a:pt x="72" y="0"/>
                  </a:lnTo>
                  <a:lnTo>
                    <a:pt x="61" y="108"/>
                  </a:lnTo>
                  <a:lnTo>
                    <a:pt x="0" y="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986360" y="2330280"/>
              <a:ext cx="34128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25720" y="3762360"/>
              <a:ext cx="177840" cy="14292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92" y="18"/>
                  </a:moveTo>
                  <a:lnTo>
                    <a:pt x="112" y="45"/>
                  </a:lnTo>
                  <a:lnTo>
                    <a:pt x="0" y="90"/>
                  </a:lnTo>
                  <a:lnTo>
                    <a:pt x="71" y="0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925720" y="3762360"/>
              <a:ext cx="177840" cy="14292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92" y="18"/>
                  </a:moveTo>
                  <a:lnTo>
                    <a:pt x="112" y="45"/>
                  </a:lnTo>
                  <a:lnTo>
                    <a:pt x="0" y="90"/>
                  </a:lnTo>
                  <a:lnTo>
                    <a:pt x="71" y="0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087720" y="2301840"/>
              <a:ext cx="2175120" cy="14889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678560" y="379080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27"/>
                  </a:moveTo>
                  <a:lnTo>
                    <a:pt x="122" y="54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78560" y="3790800"/>
              <a:ext cx="193680" cy="14292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2" y="27"/>
                  </a:moveTo>
                  <a:lnTo>
                    <a:pt x="122" y="54"/>
                  </a:lnTo>
                  <a:lnTo>
                    <a:pt x="0" y="90"/>
                  </a:lnTo>
                  <a:lnTo>
                    <a:pt x="81" y="0"/>
                  </a:lnTo>
                  <a:lnTo>
                    <a:pt x="102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4840200" y="2330280"/>
              <a:ext cx="2369880" cy="15033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080480" y="37195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0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158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080480" y="3719520"/>
              <a:ext cx="112680" cy="1713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30" y="0"/>
                  </a:moveTo>
                  <a:lnTo>
                    <a:pt x="71" y="9"/>
                  </a:lnTo>
                  <a:lnTo>
                    <a:pt x="10" y="108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7128000" y="2330280"/>
              <a:ext cx="325440" cy="13892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772040" y="18842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619760" y="39416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1757520" y="4943520"/>
            <a:ext cx="2520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2668680" y="4943520"/>
            <a:ext cx="2376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3579840" y="4943520"/>
            <a:ext cx="2376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478400" y="4943520"/>
            <a:ext cx="2376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388120" y="4943520"/>
            <a:ext cx="2520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6299280" y="4943520"/>
            <a:ext cx="2520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>
            <a:off x="7197840" y="4943520"/>
            <a:ext cx="2520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>
            <a:off x="725976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0"/>
                </a:lnTo>
                <a:lnTo>
                  <a:pt x="46" y="69"/>
                </a:lnTo>
                <a:lnTo>
                  <a:pt x="0" y="11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725976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0"/>
                </a:lnTo>
                <a:lnTo>
                  <a:pt x="46" y="69"/>
                </a:lnTo>
                <a:lnTo>
                  <a:pt x="0" y="11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7174080" y="4361040"/>
            <a:ext cx="13464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013520" y="483408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0"/>
                </a:lnTo>
                <a:lnTo>
                  <a:pt x="23" y="64"/>
                </a:lnTo>
                <a:lnTo>
                  <a:pt x="0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7013520" y="483408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0"/>
                </a:lnTo>
                <a:lnTo>
                  <a:pt x="23" y="64"/>
                </a:lnTo>
                <a:lnTo>
                  <a:pt x="0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7049880" y="4437000"/>
            <a:ext cx="12600" cy="38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636120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23" y="5"/>
                </a:moveTo>
                <a:lnTo>
                  <a:pt x="54" y="0"/>
                </a:lnTo>
                <a:lnTo>
                  <a:pt x="39" y="69"/>
                </a:lnTo>
                <a:lnTo>
                  <a:pt x="0" y="5"/>
                </a:lnTo>
                <a:lnTo>
                  <a:pt x="23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636120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23" y="5"/>
                </a:moveTo>
                <a:lnTo>
                  <a:pt x="54" y="0"/>
                </a:lnTo>
                <a:lnTo>
                  <a:pt x="39" y="69"/>
                </a:lnTo>
                <a:lnTo>
                  <a:pt x="0" y="5"/>
                </a:lnTo>
                <a:lnTo>
                  <a:pt x="23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6286680" y="4361040"/>
            <a:ext cx="11088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"/>
          <p:cNvSpPr/>
          <p:nvPr/>
        </p:nvSpPr>
        <p:spPr>
          <a:xfrm>
            <a:off x="6138720" y="48420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24" y="0"/>
                </a:moveTo>
                <a:lnTo>
                  <a:pt x="55" y="0"/>
                </a:lnTo>
                <a:lnTo>
                  <a:pt x="24" y="64"/>
                </a:lnTo>
                <a:lnTo>
                  <a:pt x="0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"/>
          <p:cNvSpPr/>
          <p:nvPr/>
        </p:nvSpPr>
        <p:spPr>
          <a:xfrm>
            <a:off x="6138720" y="48420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24" y="0"/>
                </a:moveTo>
                <a:lnTo>
                  <a:pt x="55" y="0"/>
                </a:lnTo>
                <a:lnTo>
                  <a:pt x="24" y="64"/>
                </a:lnTo>
                <a:lnTo>
                  <a:pt x="0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"/>
          <p:cNvSpPr/>
          <p:nvPr/>
        </p:nvSpPr>
        <p:spPr>
          <a:xfrm>
            <a:off x="6176880" y="4361040"/>
            <a:ext cx="180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"/>
          <p:cNvSpPr/>
          <p:nvPr/>
        </p:nvSpPr>
        <p:spPr>
          <a:xfrm>
            <a:off x="545004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0"/>
                </a:lnTo>
                <a:lnTo>
                  <a:pt x="39" y="69"/>
                </a:lnTo>
                <a:lnTo>
                  <a:pt x="0" y="5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545004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0"/>
                </a:lnTo>
                <a:lnTo>
                  <a:pt x="39" y="69"/>
                </a:lnTo>
                <a:lnTo>
                  <a:pt x="0" y="5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5400720" y="4361040"/>
            <a:ext cx="9828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"/>
          <p:cNvSpPr/>
          <p:nvPr/>
        </p:nvSpPr>
        <p:spPr>
          <a:xfrm>
            <a:off x="520380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5"/>
                </a:lnTo>
                <a:lnTo>
                  <a:pt x="23" y="69"/>
                </a:lnTo>
                <a:lnTo>
                  <a:pt x="0" y="0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"/>
          <p:cNvSpPr/>
          <p:nvPr/>
        </p:nvSpPr>
        <p:spPr>
          <a:xfrm>
            <a:off x="520380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5"/>
                </a:lnTo>
                <a:lnTo>
                  <a:pt x="23" y="69"/>
                </a:lnTo>
                <a:lnTo>
                  <a:pt x="0" y="0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5252760" y="4361040"/>
            <a:ext cx="3636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4576680" y="485136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0"/>
                </a:lnTo>
                <a:lnTo>
                  <a:pt x="38" y="64"/>
                </a:lnTo>
                <a:lnTo>
                  <a:pt x="0" y="5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4576680" y="485136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0"/>
                </a:lnTo>
                <a:lnTo>
                  <a:pt x="38" y="64"/>
                </a:lnTo>
                <a:lnTo>
                  <a:pt x="0" y="5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4514760" y="4361040"/>
            <a:ext cx="98640" cy="49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430524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5"/>
                </a:lnTo>
                <a:lnTo>
                  <a:pt x="23" y="69"/>
                </a:lnTo>
                <a:lnTo>
                  <a:pt x="0" y="0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430524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31" y="5"/>
                </a:moveTo>
                <a:lnTo>
                  <a:pt x="54" y="5"/>
                </a:lnTo>
                <a:lnTo>
                  <a:pt x="23" y="69"/>
                </a:lnTo>
                <a:lnTo>
                  <a:pt x="0" y="0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354200" y="4361040"/>
            <a:ext cx="4932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3689280" y="48420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31" y="0"/>
                </a:moveTo>
                <a:lnTo>
                  <a:pt x="55" y="0"/>
                </a:lnTo>
                <a:lnTo>
                  <a:pt x="31" y="64"/>
                </a:lnTo>
                <a:lnTo>
                  <a:pt x="0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3689280" y="48420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31" y="0"/>
                </a:moveTo>
                <a:lnTo>
                  <a:pt x="55" y="0"/>
                </a:lnTo>
                <a:lnTo>
                  <a:pt x="31" y="64"/>
                </a:lnTo>
                <a:lnTo>
                  <a:pt x="0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3738600" y="4361040"/>
            <a:ext cx="144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341964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23" y="5"/>
                </a:moveTo>
                <a:lnTo>
                  <a:pt x="54" y="11"/>
                </a:lnTo>
                <a:lnTo>
                  <a:pt x="8" y="69"/>
                </a:lnTo>
                <a:lnTo>
                  <a:pt x="0" y="0"/>
                </a:lnTo>
                <a:lnTo>
                  <a:pt x="23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3419640" y="4834080"/>
            <a:ext cx="85680" cy="109440"/>
          </a:xfrm>
          <a:custGeom>
            <a:avLst/>
            <a:gdLst/>
            <a:ahLst/>
            <a:rect l="l" t="t" r="r" b="b"/>
            <a:pathLst>
              <a:path w="54" h="69">
                <a:moveTo>
                  <a:pt x="23" y="5"/>
                </a:moveTo>
                <a:lnTo>
                  <a:pt x="54" y="11"/>
                </a:lnTo>
                <a:lnTo>
                  <a:pt x="8" y="69"/>
                </a:lnTo>
                <a:lnTo>
                  <a:pt x="0" y="0"/>
                </a:lnTo>
                <a:lnTo>
                  <a:pt x="23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468600" y="4361040"/>
            <a:ext cx="16056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790720" y="48420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32" y="0"/>
                </a:moveTo>
                <a:lnTo>
                  <a:pt x="55" y="0"/>
                </a:lnTo>
                <a:lnTo>
                  <a:pt x="24" y="64"/>
                </a:lnTo>
                <a:lnTo>
                  <a:pt x="0" y="0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"/>
          <p:cNvSpPr/>
          <p:nvPr/>
        </p:nvSpPr>
        <p:spPr>
          <a:xfrm>
            <a:off x="2790720" y="4842000"/>
            <a:ext cx="87480" cy="101520"/>
          </a:xfrm>
          <a:custGeom>
            <a:avLst/>
            <a:gdLst/>
            <a:ahLst/>
            <a:rect l="l" t="t" r="r" b="b"/>
            <a:pathLst>
              <a:path w="55" h="64">
                <a:moveTo>
                  <a:pt x="32" y="0"/>
                </a:moveTo>
                <a:lnTo>
                  <a:pt x="55" y="0"/>
                </a:lnTo>
                <a:lnTo>
                  <a:pt x="24" y="64"/>
                </a:lnTo>
                <a:lnTo>
                  <a:pt x="0" y="0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841120" y="4361040"/>
            <a:ext cx="11160" cy="4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2521080" y="485136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5"/>
                </a:lnTo>
                <a:lnTo>
                  <a:pt x="8" y="64"/>
                </a:lnTo>
                <a:lnTo>
                  <a:pt x="0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521080" y="485136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5"/>
                </a:lnTo>
                <a:lnTo>
                  <a:pt x="8" y="64"/>
                </a:lnTo>
                <a:lnTo>
                  <a:pt x="0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2557080" y="4411800"/>
            <a:ext cx="135000" cy="43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1844640" y="485136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5"/>
                </a:lnTo>
                <a:lnTo>
                  <a:pt x="15" y="64"/>
                </a:lnTo>
                <a:lnTo>
                  <a:pt x="0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1844640" y="4851360"/>
            <a:ext cx="85680" cy="101520"/>
          </a:xfrm>
          <a:custGeom>
            <a:avLst/>
            <a:gdLst/>
            <a:ahLst/>
            <a:rect l="l" t="t" r="r" b="b"/>
            <a:pathLst>
              <a:path w="54" h="64">
                <a:moveTo>
                  <a:pt x="23" y="0"/>
                </a:moveTo>
                <a:lnTo>
                  <a:pt x="54" y="5"/>
                </a:lnTo>
                <a:lnTo>
                  <a:pt x="15" y="64"/>
                </a:lnTo>
                <a:lnTo>
                  <a:pt x="0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81360" y="4344840"/>
            <a:ext cx="11088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1609560" y="4834080"/>
            <a:ext cx="98640" cy="109440"/>
          </a:xfrm>
          <a:custGeom>
            <a:avLst/>
            <a:gdLst/>
            <a:ahLst/>
            <a:rect l="l" t="t" r="r" b="b"/>
            <a:pathLst>
              <a:path w="62" h="69">
                <a:moveTo>
                  <a:pt x="31" y="5"/>
                </a:moveTo>
                <a:lnTo>
                  <a:pt x="62" y="11"/>
                </a:lnTo>
                <a:lnTo>
                  <a:pt x="0" y="69"/>
                </a:lnTo>
                <a:lnTo>
                  <a:pt x="8" y="0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1609560" y="4834080"/>
            <a:ext cx="98640" cy="109440"/>
          </a:xfrm>
          <a:custGeom>
            <a:avLst/>
            <a:gdLst/>
            <a:ahLst/>
            <a:rect l="l" t="t" r="r" b="b"/>
            <a:pathLst>
              <a:path w="62" h="69">
                <a:moveTo>
                  <a:pt x="31" y="5"/>
                </a:moveTo>
                <a:lnTo>
                  <a:pt x="62" y="11"/>
                </a:lnTo>
                <a:lnTo>
                  <a:pt x="0" y="69"/>
                </a:lnTo>
                <a:lnTo>
                  <a:pt x="8" y="0"/>
                </a:lnTo>
                <a:lnTo>
                  <a:pt x="31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1658520" y="4437000"/>
            <a:ext cx="196920" cy="40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390600" y="1996920"/>
            <a:ext cx="1731960" cy="3505320"/>
            <a:chOff x="390600" y="1996920"/>
            <a:chExt cx="1731960" cy="3505320"/>
          </a:xfrm>
        </p:grpSpPr>
        <p:sp>
          <p:nvSpPr>
            <p:cNvPr id="819" name=""/>
            <p:cNvSpPr/>
            <p:nvPr/>
          </p:nvSpPr>
          <p:spPr>
            <a:xfrm>
              <a:off x="452520" y="1996920"/>
              <a:ext cx="1333440" cy="3276720"/>
            </a:xfrm>
            <a:custGeom>
              <a:avLst/>
              <a:gdLst/>
              <a:ahLst/>
              <a:rect l="l" t="t" r="r" b="b"/>
              <a:pathLst>
                <a:path w="840" h="2064">
                  <a:moveTo>
                    <a:pt x="840" y="2064"/>
                  </a:moveTo>
                  <a:cubicBezTo>
                    <a:pt x="444" y="1780"/>
                    <a:pt x="48" y="1496"/>
                    <a:pt x="24" y="1152"/>
                  </a:cubicBezTo>
                  <a:cubicBezTo>
                    <a:pt x="0" y="808"/>
                    <a:pt x="348" y="404"/>
                    <a:pt x="696" y="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90600" y="2055600"/>
              <a:ext cx="1731960" cy="3446640"/>
            </a:xfrm>
            <a:custGeom>
              <a:avLst/>
              <a:gdLst/>
              <a:ahLst/>
              <a:rect l="l" t="t" r="r" b="b"/>
              <a:pathLst>
                <a:path w="1091" h="2171">
                  <a:moveTo>
                    <a:pt x="855" y="2171"/>
                  </a:moveTo>
                  <a:cubicBezTo>
                    <a:pt x="459" y="1887"/>
                    <a:pt x="0" y="1621"/>
                    <a:pt x="39" y="1259"/>
                  </a:cubicBezTo>
                  <a:cubicBezTo>
                    <a:pt x="78" y="897"/>
                    <a:pt x="872" y="262"/>
                    <a:pt x="1091" y="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5500-E4ED-428B-9093-95D3AA3325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48" name=""/>
          <p:cNvCxnSpPr>
            <a:stCxn id="2042" idx="6"/>
            <a:endCxn id="2045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9" name=""/>
          <p:cNvCxnSpPr>
            <a:stCxn id="2045" idx="6"/>
            <a:endCxn id="2040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0" name=""/>
          <p:cNvCxnSpPr>
            <a:stCxn id="2041" idx="6"/>
            <a:endCxn id="2044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051" name=""/>
          <p:cNvCxnSpPr>
            <a:stCxn id="2044" idx="6"/>
            <a:endCxn id="2047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2" name=""/>
          <p:cNvCxnSpPr>
            <a:stCxn id="2042" idx="4"/>
            <a:endCxn id="2041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3" name=""/>
          <p:cNvCxnSpPr>
            <a:stCxn id="2040" idx="4"/>
            <a:endCxn id="2047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4" name=""/>
          <p:cNvCxnSpPr>
            <a:stCxn id="2041" idx="7"/>
            <a:endCxn id="2046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5" name=""/>
          <p:cNvCxnSpPr>
            <a:stCxn id="2046" idx="7"/>
            <a:endCxn id="2045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6" name=""/>
          <p:cNvCxnSpPr>
            <a:stCxn id="2045" idx="5"/>
            <a:endCxn id="2047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7" name=""/>
          <p:cNvCxnSpPr>
            <a:stCxn id="2046" idx="5"/>
            <a:endCxn id="2044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8" name=""/>
          <p:cNvCxnSpPr>
            <a:stCxn id="2043" idx="7"/>
            <a:endCxn id="2042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9" name=""/>
          <p:cNvCxnSpPr>
            <a:stCxn id="2043" idx="5"/>
            <a:endCxn id="2041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0" name=""/>
          <p:cNvCxnSpPr>
            <a:stCxn id="2047" idx="7"/>
            <a:endCxn id="2039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1" name=""/>
          <p:cNvCxnSpPr>
            <a:stCxn id="2040" idx="5"/>
            <a:endCxn id="2039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62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9C98-CBB5-463E-A0B1-AC60F856611E}" type="slidenum">
              <a:t>60</a:t>
            </a:fld>
          </a:p>
        </p:txBody>
      </p:sp>
    </p:spTree>
  </p:cSld>
  <p:transition>
    <p:dissolv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9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0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1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2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3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86" name=""/>
          <p:cNvCxnSpPr>
            <a:stCxn id="2080" idx="6"/>
            <a:endCxn id="2083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7" name=""/>
          <p:cNvCxnSpPr>
            <a:stCxn id="2083" idx="6"/>
            <a:endCxn id="2078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8" name=""/>
          <p:cNvCxnSpPr>
            <a:stCxn id="2079" idx="6"/>
            <a:endCxn id="2082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089" name=""/>
          <p:cNvCxnSpPr>
            <a:stCxn id="2082" idx="6"/>
            <a:endCxn id="2085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090" name=""/>
          <p:cNvCxnSpPr>
            <a:stCxn id="2080" idx="4"/>
            <a:endCxn id="2079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1" name=""/>
          <p:cNvCxnSpPr>
            <a:stCxn id="2078" idx="4"/>
            <a:endCxn id="2085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2" name=""/>
          <p:cNvCxnSpPr>
            <a:stCxn id="2079" idx="7"/>
            <a:endCxn id="2084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3" name=""/>
          <p:cNvCxnSpPr>
            <a:stCxn id="2084" idx="7"/>
            <a:endCxn id="2083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094" name=""/>
          <p:cNvCxnSpPr>
            <a:stCxn id="2083" idx="5"/>
            <a:endCxn id="2085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5" name=""/>
          <p:cNvCxnSpPr>
            <a:stCxn id="2084" idx="5"/>
            <a:endCxn id="2082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6" name=""/>
          <p:cNvCxnSpPr>
            <a:stCxn id="2081" idx="7"/>
            <a:endCxn id="2080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7" name=""/>
          <p:cNvCxnSpPr>
            <a:stCxn id="2081" idx="5"/>
            <a:endCxn id="2079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8" name=""/>
          <p:cNvCxnSpPr>
            <a:stCxn id="2085" idx="7"/>
            <a:endCxn id="2077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9" name=""/>
          <p:cNvCxnSpPr>
            <a:stCxn id="2078" idx="5"/>
            <a:endCxn id="2077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00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1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2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3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4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5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6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7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8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9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E30-65B9-440E-9827-865D624A6127}" type="slidenum">
              <a:t>61</a:t>
            </a:fld>
          </a:p>
        </p:txBody>
      </p:sp>
    </p:spTree>
  </p:cSld>
  <p:transition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24" name=""/>
          <p:cNvCxnSpPr>
            <a:stCxn id="2118" idx="6"/>
            <a:endCxn id="2121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5" name=""/>
          <p:cNvCxnSpPr>
            <a:stCxn id="2121" idx="6"/>
            <a:endCxn id="2116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6" name=""/>
          <p:cNvCxnSpPr>
            <a:stCxn id="2117" idx="6"/>
            <a:endCxn id="2120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27" name=""/>
          <p:cNvCxnSpPr>
            <a:stCxn id="2120" idx="6"/>
            <a:endCxn id="2123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28" name=""/>
          <p:cNvCxnSpPr>
            <a:stCxn id="2118" idx="4"/>
            <a:endCxn id="2117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9" name=""/>
          <p:cNvCxnSpPr>
            <a:stCxn id="2116" idx="4"/>
            <a:endCxn id="2123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0" name=""/>
          <p:cNvCxnSpPr>
            <a:stCxn id="2117" idx="7"/>
            <a:endCxn id="2122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1" name=""/>
          <p:cNvCxnSpPr>
            <a:stCxn id="2122" idx="7"/>
            <a:endCxn id="2121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132" name=""/>
          <p:cNvCxnSpPr>
            <a:stCxn id="2121" idx="5"/>
            <a:endCxn id="2123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3" name=""/>
          <p:cNvCxnSpPr>
            <a:stCxn id="2122" idx="5"/>
            <a:endCxn id="2120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4" name=""/>
          <p:cNvCxnSpPr>
            <a:stCxn id="2119" idx="7"/>
            <a:endCxn id="2118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5" name=""/>
          <p:cNvCxnSpPr>
            <a:stCxn id="2119" idx="5"/>
            <a:endCxn id="2117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6" name=""/>
          <p:cNvCxnSpPr>
            <a:stCxn id="2123" idx="7"/>
            <a:endCxn id="2115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7" name=""/>
          <p:cNvCxnSpPr>
            <a:stCxn id="2116" idx="5"/>
            <a:endCxn id="2115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38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0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1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FC78-9F4E-43CE-8CBF-D004C61ECFED}" type="slidenum">
              <a:t>62</a:t>
            </a:fld>
          </a:p>
        </p:txBody>
      </p:sp>
    </p:spTree>
  </p:cSld>
  <p:transition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5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6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7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8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9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0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1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62" name=""/>
          <p:cNvCxnSpPr>
            <a:stCxn id="2156" idx="6"/>
            <a:endCxn id="2159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3" name=""/>
          <p:cNvCxnSpPr>
            <a:stCxn id="2159" idx="6"/>
            <a:endCxn id="2154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4" name=""/>
          <p:cNvCxnSpPr>
            <a:stCxn id="2155" idx="6"/>
            <a:endCxn id="2158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5" name=""/>
          <p:cNvCxnSpPr>
            <a:stCxn id="2158" idx="6"/>
            <a:endCxn id="2161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6" name=""/>
          <p:cNvCxnSpPr>
            <a:stCxn id="2156" idx="4"/>
            <a:endCxn id="2155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7" name=""/>
          <p:cNvCxnSpPr>
            <a:stCxn id="2154" idx="4"/>
            <a:endCxn id="2161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8" name=""/>
          <p:cNvCxnSpPr>
            <a:stCxn id="2155" idx="7"/>
            <a:endCxn id="2160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9" name=""/>
          <p:cNvCxnSpPr>
            <a:stCxn id="2160" idx="7"/>
            <a:endCxn id="2159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70" name=""/>
          <p:cNvCxnSpPr>
            <a:stCxn id="2159" idx="5"/>
            <a:endCxn id="2161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171" name=""/>
          <p:cNvCxnSpPr>
            <a:stCxn id="2160" idx="5"/>
            <a:endCxn id="2158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2" name=""/>
          <p:cNvCxnSpPr>
            <a:stCxn id="2157" idx="7"/>
            <a:endCxn id="2156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173" name=""/>
          <p:cNvCxnSpPr>
            <a:stCxn id="2157" idx="5"/>
            <a:endCxn id="2155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4" name=""/>
          <p:cNvCxnSpPr>
            <a:stCxn id="2161" idx="7"/>
            <a:endCxn id="2153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5" name=""/>
          <p:cNvCxnSpPr>
            <a:stCxn id="2154" idx="5"/>
            <a:endCxn id="2153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76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7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8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9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0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1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2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3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4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5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6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E7A3-8360-451A-84FF-F437EC971C61}" type="slidenum">
              <a:t>63</a:t>
            </a:fld>
          </a:p>
        </p:txBody>
      </p:sp>
    </p:spTree>
  </p:cSld>
  <p:transition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00" name=""/>
          <p:cNvCxnSpPr>
            <a:stCxn id="2194" idx="6"/>
            <a:endCxn id="219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1" name=""/>
          <p:cNvCxnSpPr>
            <a:stCxn id="2197" idx="6"/>
            <a:endCxn id="219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2" name=""/>
          <p:cNvCxnSpPr>
            <a:stCxn id="2193" idx="6"/>
            <a:endCxn id="219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03" name=""/>
          <p:cNvCxnSpPr>
            <a:stCxn id="2196" idx="6"/>
            <a:endCxn id="219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04" name=""/>
          <p:cNvCxnSpPr>
            <a:stCxn id="2194" idx="4"/>
            <a:endCxn id="219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5" name=""/>
          <p:cNvCxnSpPr>
            <a:stCxn id="2192" idx="4"/>
            <a:endCxn id="219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6" name=""/>
          <p:cNvCxnSpPr>
            <a:stCxn id="2193" idx="7"/>
            <a:endCxn id="219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7" name=""/>
          <p:cNvCxnSpPr>
            <a:stCxn id="2198" idx="7"/>
            <a:endCxn id="219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08" name=""/>
          <p:cNvCxnSpPr>
            <a:stCxn id="2197" idx="5"/>
            <a:endCxn id="219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209" name=""/>
          <p:cNvCxnSpPr>
            <a:stCxn id="2198" idx="5"/>
            <a:endCxn id="219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0" name=""/>
          <p:cNvCxnSpPr>
            <a:stCxn id="2195" idx="7"/>
            <a:endCxn id="219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11" name=""/>
          <p:cNvCxnSpPr>
            <a:stCxn id="2195" idx="5"/>
            <a:endCxn id="219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2" name=""/>
          <p:cNvCxnSpPr>
            <a:stCxn id="2199" idx="7"/>
            <a:endCxn id="219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3" name=""/>
          <p:cNvCxnSpPr>
            <a:stCxn id="2192" idx="5"/>
            <a:endCxn id="219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1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186-81AC-44A0-8BB4-6C1B527E334F}" type="slidenum">
              <a:t>64</a:t>
            </a:fld>
          </a:p>
        </p:txBody>
      </p:sp>
    </p:spTree>
  </p:cSld>
  <p:transition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38" name=""/>
          <p:cNvCxnSpPr>
            <a:stCxn id="2232" idx="6"/>
            <a:endCxn id="2235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9" name=""/>
          <p:cNvCxnSpPr>
            <a:stCxn id="2235" idx="6"/>
            <a:endCxn id="2230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0" name=""/>
          <p:cNvCxnSpPr>
            <a:stCxn id="2231" idx="6"/>
            <a:endCxn id="2234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1" name=""/>
          <p:cNvCxnSpPr>
            <a:stCxn id="2234" idx="6"/>
            <a:endCxn id="2237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2" name=""/>
          <p:cNvCxnSpPr>
            <a:stCxn id="2232" idx="4"/>
            <a:endCxn id="2231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3" name=""/>
          <p:cNvCxnSpPr>
            <a:stCxn id="2230" idx="4"/>
            <a:endCxn id="2237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4" name=""/>
          <p:cNvCxnSpPr>
            <a:stCxn id="2231" idx="7"/>
            <a:endCxn id="2236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5" name=""/>
          <p:cNvCxnSpPr>
            <a:stCxn id="2236" idx="7"/>
            <a:endCxn id="2235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6" name=""/>
          <p:cNvCxnSpPr>
            <a:stCxn id="2235" idx="5"/>
            <a:endCxn id="2237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7" name=""/>
          <p:cNvCxnSpPr>
            <a:stCxn id="2236" idx="5"/>
            <a:endCxn id="2234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248" name=""/>
          <p:cNvCxnSpPr>
            <a:stCxn id="2233" idx="7"/>
            <a:endCxn id="2232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9" name=""/>
          <p:cNvCxnSpPr>
            <a:stCxn id="2233" idx="5"/>
            <a:endCxn id="2231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50" name=""/>
          <p:cNvCxnSpPr>
            <a:stCxn id="2237" idx="7"/>
            <a:endCxn id="2229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51" name=""/>
          <p:cNvCxnSpPr>
            <a:stCxn id="2230" idx="5"/>
            <a:endCxn id="2229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52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3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4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5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6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7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8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9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0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1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2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3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4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5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F930-8495-43F5-8FE7-BA8BE1B4B124}" type="slidenum">
              <a:t>65</a:t>
            </a:fld>
          </a:p>
        </p:txBody>
      </p:sp>
    </p:spTree>
  </p:cSld>
  <p:transition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76" name=""/>
          <p:cNvCxnSpPr>
            <a:stCxn id="2270" idx="6"/>
            <a:endCxn id="2273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77" name=""/>
          <p:cNvCxnSpPr>
            <a:stCxn id="2273" idx="6"/>
            <a:endCxn id="2268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278" name=""/>
          <p:cNvCxnSpPr>
            <a:stCxn id="2269" idx="6"/>
            <a:endCxn id="2272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79" name=""/>
          <p:cNvCxnSpPr>
            <a:stCxn id="2272" idx="6"/>
            <a:endCxn id="2275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80" name=""/>
          <p:cNvCxnSpPr>
            <a:stCxn id="2270" idx="4"/>
            <a:endCxn id="2269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1" name=""/>
          <p:cNvCxnSpPr>
            <a:stCxn id="2268" idx="4"/>
            <a:endCxn id="2275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2" name=""/>
          <p:cNvCxnSpPr>
            <a:stCxn id="2269" idx="7"/>
            <a:endCxn id="2274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283" name=""/>
          <p:cNvCxnSpPr>
            <a:stCxn id="2274" idx="7"/>
            <a:endCxn id="2273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84" name=""/>
          <p:cNvCxnSpPr>
            <a:stCxn id="2273" idx="5"/>
            <a:endCxn id="2275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85" name=""/>
          <p:cNvCxnSpPr>
            <a:stCxn id="2274" idx="5"/>
            <a:endCxn id="2272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6" name=""/>
          <p:cNvCxnSpPr>
            <a:stCxn id="2271" idx="7"/>
            <a:endCxn id="2270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87" name=""/>
          <p:cNvCxnSpPr>
            <a:stCxn id="2271" idx="5"/>
            <a:endCxn id="2269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8" name=""/>
          <p:cNvCxnSpPr>
            <a:stCxn id="2275" idx="7"/>
            <a:endCxn id="2267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9" name=""/>
          <p:cNvCxnSpPr>
            <a:stCxn id="2268" idx="5"/>
            <a:endCxn id="2267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90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2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3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5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6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8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9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1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2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6B46-455D-455B-95B6-EE903E80471F}" type="slidenum">
              <a:t>66</a:t>
            </a:fld>
          </a:p>
        </p:txBody>
      </p:sp>
    </p:spTree>
  </p:cSld>
  <p:transition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6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7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8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9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0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1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2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3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314" name=""/>
          <p:cNvCxnSpPr>
            <a:stCxn id="2308" idx="6"/>
            <a:endCxn id="2311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5" name=""/>
          <p:cNvCxnSpPr>
            <a:stCxn id="2311" idx="6"/>
            <a:endCxn id="2306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316" name=""/>
          <p:cNvCxnSpPr>
            <a:stCxn id="2307" idx="6"/>
            <a:endCxn id="2310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17" name=""/>
          <p:cNvCxnSpPr>
            <a:stCxn id="2310" idx="6"/>
            <a:endCxn id="2313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18" name=""/>
          <p:cNvCxnSpPr>
            <a:stCxn id="2308" idx="4"/>
            <a:endCxn id="2307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9" name=""/>
          <p:cNvCxnSpPr>
            <a:stCxn id="2306" idx="4"/>
            <a:endCxn id="2313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0" name=""/>
          <p:cNvCxnSpPr>
            <a:stCxn id="2307" idx="7"/>
            <a:endCxn id="2312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1" name=""/>
          <p:cNvCxnSpPr>
            <a:stCxn id="2312" idx="7"/>
            <a:endCxn id="2311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22" name=""/>
          <p:cNvCxnSpPr>
            <a:stCxn id="2311" idx="5"/>
            <a:endCxn id="2313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23" name=""/>
          <p:cNvCxnSpPr>
            <a:stCxn id="2312" idx="5"/>
            <a:endCxn id="2310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4" name=""/>
          <p:cNvCxnSpPr>
            <a:stCxn id="2309" idx="7"/>
            <a:endCxn id="2308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25" name=""/>
          <p:cNvCxnSpPr>
            <a:stCxn id="2309" idx="5"/>
            <a:endCxn id="2307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6" name=""/>
          <p:cNvCxnSpPr>
            <a:stCxn id="2313" idx="7"/>
            <a:endCxn id="2305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7" name=""/>
          <p:cNvCxnSpPr>
            <a:stCxn id="2306" idx="5"/>
            <a:endCxn id="2305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28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9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0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1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2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3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4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5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6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7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8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9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0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1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D61-E56C-4909-A726-2CD71B8D7775}" type="slidenum">
              <a:t>67</a:t>
            </a:fld>
          </a:p>
        </p:txBody>
      </p:sp>
    </p:spTree>
  </p:cSld>
  <p:transition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4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5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6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7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8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9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0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1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352" name=""/>
          <p:cNvCxnSpPr>
            <a:stCxn id="2346" idx="6"/>
            <a:endCxn id="2349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353" name=""/>
          <p:cNvCxnSpPr>
            <a:stCxn id="2349" idx="6"/>
            <a:endCxn id="2344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54" name=""/>
          <p:cNvCxnSpPr>
            <a:stCxn id="2345" idx="6"/>
            <a:endCxn id="2348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55" name=""/>
          <p:cNvCxnSpPr>
            <a:stCxn id="2348" idx="6"/>
            <a:endCxn id="2351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56" name=""/>
          <p:cNvCxnSpPr>
            <a:stCxn id="2346" idx="4"/>
            <a:endCxn id="2345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7" name=""/>
          <p:cNvCxnSpPr>
            <a:stCxn id="2344" idx="4"/>
            <a:endCxn id="2351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8" name=""/>
          <p:cNvCxnSpPr>
            <a:stCxn id="2345" idx="7"/>
            <a:endCxn id="2350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9" name=""/>
          <p:cNvCxnSpPr>
            <a:stCxn id="2350" idx="7"/>
            <a:endCxn id="2349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60" name=""/>
          <p:cNvCxnSpPr>
            <a:stCxn id="2349" idx="5"/>
            <a:endCxn id="2351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61" name=""/>
          <p:cNvCxnSpPr>
            <a:stCxn id="2350" idx="5"/>
            <a:endCxn id="2348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2" name=""/>
          <p:cNvCxnSpPr>
            <a:stCxn id="2347" idx="7"/>
            <a:endCxn id="2346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63" name=""/>
          <p:cNvCxnSpPr>
            <a:stCxn id="2347" idx="5"/>
            <a:endCxn id="2345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364" name=""/>
          <p:cNvCxnSpPr>
            <a:stCxn id="2351" idx="7"/>
            <a:endCxn id="2343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5" name=""/>
          <p:cNvCxnSpPr>
            <a:stCxn id="2344" idx="5"/>
            <a:endCxn id="2343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66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7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8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9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0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1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2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3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4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5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6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8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9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04A-0C7C-4E54-9989-C4D68B989564}" type="slidenum">
              <a:t>68</a:t>
            </a:fld>
          </a:p>
        </p:txBody>
      </p:sp>
    </p:spTree>
  </p:cSld>
  <p:transition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390" name=""/>
          <p:cNvCxnSpPr>
            <a:stCxn id="2384" idx="6"/>
            <a:endCxn id="238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391" name=""/>
          <p:cNvCxnSpPr>
            <a:stCxn id="2387" idx="6"/>
            <a:endCxn id="238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92" name=""/>
          <p:cNvCxnSpPr>
            <a:stCxn id="2383" idx="6"/>
            <a:endCxn id="238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93" name=""/>
          <p:cNvCxnSpPr>
            <a:stCxn id="2386" idx="6"/>
            <a:endCxn id="238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94" name=""/>
          <p:cNvCxnSpPr>
            <a:stCxn id="2384" idx="4"/>
            <a:endCxn id="238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5" name=""/>
          <p:cNvCxnSpPr>
            <a:stCxn id="2382" idx="4"/>
            <a:endCxn id="238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6" name=""/>
          <p:cNvCxnSpPr>
            <a:stCxn id="2383" idx="7"/>
            <a:endCxn id="238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7" name=""/>
          <p:cNvCxnSpPr>
            <a:stCxn id="2388" idx="7"/>
            <a:endCxn id="238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98" name=""/>
          <p:cNvCxnSpPr>
            <a:stCxn id="2387" idx="5"/>
            <a:endCxn id="238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399" name=""/>
          <p:cNvCxnSpPr>
            <a:stCxn id="2388" idx="5"/>
            <a:endCxn id="238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0" name=""/>
          <p:cNvCxnSpPr>
            <a:stCxn id="2385" idx="7"/>
            <a:endCxn id="238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01" name=""/>
          <p:cNvCxnSpPr>
            <a:stCxn id="2385" idx="5"/>
            <a:endCxn id="238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02" name=""/>
          <p:cNvCxnSpPr>
            <a:stCxn id="2389" idx="7"/>
            <a:endCxn id="238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3" name=""/>
          <p:cNvCxnSpPr>
            <a:stCxn id="2382" idx="5"/>
            <a:endCxn id="238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0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3EB8-9245-43A3-8959-3EBF4485EAFC}" type="slidenum">
              <a:t>69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 4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155600" y="2057400"/>
            <a:ext cx="6061320" cy="2563920"/>
            <a:chOff x="1155600" y="2057400"/>
            <a:chExt cx="6061320" cy="2563920"/>
          </a:xfrm>
        </p:grpSpPr>
        <p:sp>
          <p:nvSpPr>
            <p:cNvPr id="823" name=""/>
            <p:cNvSpPr/>
            <p:nvPr/>
          </p:nvSpPr>
          <p:spPr>
            <a:xfrm>
              <a:off x="1380960" y="42228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80960" y="25351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462280" y="253512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941800" y="253512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420960" y="253512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901920" y="25351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81320" y="288144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461920" y="2881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41440" y="2881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420960" y="2881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901920" y="288144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981320" y="322596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461920" y="322596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941440" y="322596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420960" y="322596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901920" y="322596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981320" y="357192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461920" y="35719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941800" y="357192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420960" y="35719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901920" y="357192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980960" y="3916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62280" y="391644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1800" y="391644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20960" y="391644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9900"/>
                  </a:solidFill>
                  <a:latin typeface="Times New Roman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901920" y="3916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008600" y="2322360"/>
              <a:ext cx="53640" cy="27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008600" y="4383000"/>
              <a:ext cx="53640" cy="25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008600" y="2349360"/>
              <a:ext cx="53640" cy="203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022640" y="4368960"/>
              <a:ext cx="52560" cy="5364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25"/>
                  </a:moveTo>
                  <a:lnTo>
                    <a:pt x="17" y="34"/>
                  </a:lnTo>
                  <a:lnTo>
                    <a:pt x="33" y="9"/>
                  </a:lnTo>
                  <a:lnTo>
                    <a:pt x="1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676600" y="3386160"/>
              <a:ext cx="52200" cy="6660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16" y="42"/>
                  </a:moveTo>
                  <a:lnTo>
                    <a:pt x="0" y="33"/>
                  </a:lnTo>
                  <a:lnTo>
                    <a:pt x="25" y="0"/>
                  </a:lnTo>
                  <a:lnTo>
                    <a:pt x="33" y="17"/>
                  </a:lnTo>
                  <a:lnTo>
                    <a:pt x="16" y="4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01800" y="3413160"/>
              <a:ext cx="1347840" cy="995400"/>
            </a:xfrm>
            <a:custGeom>
              <a:avLst/>
              <a:gdLst/>
              <a:ahLst/>
              <a:rect l="l" t="t" r="r" b="b"/>
              <a:pathLst>
                <a:path w="849" h="627">
                  <a:moveTo>
                    <a:pt x="832" y="627"/>
                  </a:moveTo>
                  <a:lnTo>
                    <a:pt x="849" y="602"/>
                  </a:lnTo>
                  <a:lnTo>
                    <a:pt x="17" y="0"/>
                  </a:lnTo>
                  <a:lnTo>
                    <a:pt x="0" y="25"/>
                  </a:lnTo>
                  <a:lnTo>
                    <a:pt x="832" y="6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701800" y="3413160"/>
              <a:ext cx="54000" cy="522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25"/>
                  </a:moveTo>
                  <a:lnTo>
                    <a:pt x="17" y="33"/>
                  </a:lnTo>
                  <a:lnTo>
                    <a:pt x="34" y="8"/>
                  </a:lnTo>
                  <a:lnTo>
                    <a:pt x="2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355760" y="230976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17" y="42"/>
                  </a:moveTo>
                  <a:lnTo>
                    <a:pt x="0" y="33"/>
                  </a:lnTo>
                  <a:lnTo>
                    <a:pt x="26" y="0"/>
                  </a:lnTo>
                  <a:lnTo>
                    <a:pt x="42" y="17"/>
                  </a:lnTo>
                  <a:lnTo>
                    <a:pt x="17" y="4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382760" y="2336760"/>
              <a:ext cx="1360440" cy="1116000"/>
            </a:xfrm>
            <a:custGeom>
              <a:avLst/>
              <a:gdLst/>
              <a:ahLst/>
              <a:rect l="l" t="t" r="r" b="b"/>
              <a:pathLst>
                <a:path w="857" h="703">
                  <a:moveTo>
                    <a:pt x="831" y="703"/>
                  </a:moveTo>
                  <a:lnTo>
                    <a:pt x="857" y="678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831" y="70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01800" y="3386160"/>
              <a:ext cx="54000" cy="6660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17" y="42"/>
                  </a:moveTo>
                  <a:lnTo>
                    <a:pt x="34" y="33"/>
                  </a:lnTo>
                  <a:lnTo>
                    <a:pt x="17" y="0"/>
                  </a:lnTo>
                  <a:lnTo>
                    <a:pt x="0" y="17"/>
                  </a:lnTo>
                  <a:lnTo>
                    <a:pt x="17" y="4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355760" y="4368960"/>
              <a:ext cx="54000" cy="536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25"/>
                  </a:moveTo>
                  <a:lnTo>
                    <a:pt x="26" y="34"/>
                  </a:lnTo>
                  <a:lnTo>
                    <a:pt x="0" y="9"/>
                  </a:lnTo>
                  <a:lnTo>
                    <a:pt x="17" y="0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382760" y="3413160"/>
              <a:ext cx="1346040" cy="995400"/>
            </a:xfrm>
            <a:custGeom>
              <a:avLst/>
              <a:gdLst/>
              <a:ahLst/>
              <a:rect l="l" t="t" r="r" b="b"/>
              <a:pathLst>
                <a:path w="848" h="627">
                  <a:moveTo>
                    <a:pt x="848" y="25"/>
                  </a:moveTo>
                  <a:lnTo>
                    <a:pt x="831" y="0"/>
                  </a:lnTo>
                  <a:lnTo>
                    <a:pt x="0" y="602"/>
                  </a:lnTo>
                  <a:lnTo>
                    <a:pt x="17" y="627"/>
                  </a:lnTo>
                  <a:lnTo>
                    <a:pt x="848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370160" y="2322360"/>
              <a:ext cx="52200" cy="27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70160" y="4383000"/>
              <a:ext cx="52200" cy="25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370160" y="2349360"/>
              <a:ext cx="52200" cy="203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370160" y="2322360"/>
              <a:ext cx="27000" cy="54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035600" y="2322360"/>
              <a:ext cx="26640" cy="54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397160" y="2322360"/>
              <a:ext cx="2638440" cy="54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370160" y="4356000"/>
              <a:ext cx="27000" cy="52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035600" y="4356000"/>
              <a:ext cx="26640" cy="52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397160" y="4356000"/>
              <a:ext cx="2638440" cy="52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155600" y="2109960"/>
              <a:ext cx="480960" cy="47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162080" y="2116080"/>
              <a:ext cx="468360" cy="466920"/>
            </a:xfrm>
            <a:prstGeom prst="ellipse">
              <a:avLst/>
            </a:prstGeom>
            <a:noFill/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795840" y="4143240"/>
              <a:ext cx="479160" cy="47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801960" y="4149720"/>
              <a:ext cx="468360" cy="466560"/>
            </a:xfrm>
            <a:prstGeom prst="ellipse">
              <a:avLst/>
            </a:prstGeom>
            <a:noFill/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476440" y="3186000"/>
              <a:ext cx="479520" cy="479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481120" y="3192480"/>
              <a:ext cx="468360" cy="466560"/>
            </a:xfrm>
            <a:prstGeom prst="ellipse">
              <a:avLst/>
            </a:prstGeom>
            <a:noFill/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795840" y="2109960"/>
              <a:ext cx="479160" cy="47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01960" y="2116080"/>
              <a:ext cx="468360" cy="466920"/>
            </a:xfrm>
            <a:prstGeom prst="ellipse">
              <a:avLst/>
            </a:prstGeom>
            <a:noFill/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155600" y="4143240"/>
              <a:ext cx="480960" cy="47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62080" y="4149720"/>
              <a:ext cx="468360" cy="466560"/>
            </a:xfrm>
            <a:prstGeom prst="ellipse">
              <a:avLst/>
            </a:prstGeom>
            <a:noFill/>
            <a:ln w="39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02840" y="21636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941280" y="220356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637000" y="324000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55680" y="41958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867200" y="2475000"/>
              <a:ext cx="2349720" cy="184932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981680" y="20574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462640" y="205740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942160" y="20574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421320" y="205740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902640" y="20574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16560" y="249552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516560" y="284148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16560" y="31860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516560" y="35323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516560" y="387684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294920" y="41911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914400" y="5105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Space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標楷體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標楷體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20F-6814-45BC-9F71-8ABB8A9A0C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0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1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2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3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4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5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6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7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28" name=""/>
          <p:cNvCxnSpPr>
            <a:stCxn id="2422" idx="6"/>
            <a:endCxn id="2425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29" name=""/>
          <p:cNvCxnSpPr>
            <a:stCxn id="2425" idx="6"/>
            <a:endCxn id="2420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0" name=""/>
          <p:cNvCxnSpPr>
            <a:stCxn id="2421" idx="6"/>
            <a:endCxn id="2424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1" name=""/>
          <p:cNvCxnSpPr>
            <a:stCxn id="2424" idx="6"/>
            <a:endCxn id="2427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2" name=""/>
          <p:cNvCxnSpPr>
            <a:stCxn id="2422" idx="4"/>
            <a:endCxn id="2421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3" name=""/>
          <p:cNvCxnSpPr>
            <a:stCxn id="2420" idx="4"/>
            <a:endCxn id="2427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4" name=""/>
          <p:cNvCxnSpPr>
            <a:stCxn id="2421" idx="7"/>
            <a:endCxn id="2426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5" name=""/>
          <p:cNvCxnSpPr>
            <a:stCxn id="2426" idx="7"/>
            <a:endCxn id="2425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6" name=""/>
          <p:cNvCxnSpPr>
            <a:stCxn id="2425" idx="5"/>
            <a:endCxn id="2427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7" name=""/>
          <p:cNvCxnSpPr>
            <a:stCxn id="2426" idx="5"/>
            <a:endCxn id="2424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8" name=""/>
          <p:cNvCxnSpPr>
            <a:stCxn id="2423" idx="7"/>
            <a:endCxn id="2422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39" name=""/>
          <p:cNvCxnSpPr>
            <a:stCxn id="2423" idx="5"/>
            <a:endCxn id="2421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40" name=""/>
          <p:cNvCxnSpPr>
            <a:stCxn id="2427" idx="7"/>
            <a:endCxn id="2419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1" name=""/>
          <p:cNvCxnSpPr>
            <a:stCxn id="2420" idx="5"/>
            <a:endCxn id="2419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sp>
        <p:nvSpPr>
          <p:cNvPr id="2442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3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4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5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6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7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8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9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0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1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2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3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4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5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AB5B-7CFE-4B19-99ED-C9C49BEAB67E}" type="slidenum">
              <a:t>70</a:t>
            </a:fld>
          </a:p>
        </p:txBody>
      </p:sp>
    </p:spTree>
  </p:cSld>
  <p:transition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8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9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0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1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2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3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4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5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66" name=""/>
          <p:cNvCxnSpPr>
            <a:stCxn id="2460" idx="6"/>
            <a:endCxn id="2463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7" name=""/>
          <p:cNvCxnSpPr>
            <a:stCxn id="2463" idx="6"/>
            <a:endCxn id="2458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68" name=""/>
          <p:cNvCxnSpPr>
            <a:stCxn id="2459" idx="6"/>
            <a:endCxn id="2462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69" name=""/>
          <p:cNvCxnSpPr>
            <a:stCxn id="2462" idx="6"/>
            <a:endCxn id="2465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70" name=""/>
          <p:cNvCxnSpPr>
            <a:stCxn id="2460" idx="4"/>
            <a:endCxn id="2459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1" name=""/>
          <p:cNvCxnSpPr>
            <a:stCxn id="2458" idx="4"/>
            <a:endCxn id="2465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2" name=""/>
          <p:cNvCxnSpPr>
            <a:stCxn id="2459" idx="7"/>
            <a:endCxn id="2464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3" name=""/>
          <p:cNvCxnSpPr>
            <a:stCxn id="2464" idx="7"/>
            <a:endCxn id="2463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74" name=""/>
          <p:cNvCxnSpPr>
            <a:stCxn id="2463" idx="5"/>
            <a:endCxn id="2465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75" name=""/>
          <p:cNvCxnSpPr>
            <a:stCxn id="2464" idx="5"/>
            <a:endCxn id="2462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6" name=""/>
          <p:cNvCxnSpPr>
            <a:stCxn id="2461" idx="7"/>
            <a:endCxn id="2460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77" name=""/>
          <p:cNvCxnSpPr>
            <a:stCxn id="2461" idx="5"/>
            <a:endCxn id="2459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478" name=""/>
          <p:cNvCxnSpPr>
            <a:stCxn id="2465" idx="7"/>
            <a:endCxn id="2457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479" name=""/>
          <p:cNvCxnSpPr>
            <a:stCxn id="2458" idx="5"/>
            <a:endCxn id="2457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480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1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2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3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4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5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6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7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8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9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0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1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2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3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D98E-ECC9-426D-A820-422B230C4DB3}" type="slidenum">
              <a:t>71</a:t>
            </a:fld>
          </a:p>
        </p:txBody>
      </p:sp>
    </p:spTree>
  </p:cSld>
  <p:transition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6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7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8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9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0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1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2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3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04" name=""/>
          <p:cNvCxnSpPr>
            <a:stCxn id="2498" idx="6"/>
            <a:endCxn id="2501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5" name=""/>
          <p:cNvCxnSpPr>
            <a:stCxn id="2501" idx="6"/>
            <a:endCxn id="2496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06" name=""/>
          <p:cNvCxnSpPr>
            <a:stCxn id="2497" idx="6"/>
            <a:endCxn id="2500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07" name=""/>
          <p:cNvCxnSpPr>
            <a:stCxn id="2500" idx="6"/>
            <a:endCxn id="2503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08" name=""/>
          <p:cNvCxnSpPr>
            <a:stCxn id="2498" idx="4"/>
            <a:endCxn id="2497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509" name=""/>
          <p:cNvCxnSpPr>
            <a:stCxn id="2496" idx="4"/>
            <a:endCxn id="2503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0" name=""/>
          <p:cNvCxnSpPr>
            <a:stCxn id="2497" idx="7"/>
            <a:endCxn id="2502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1" name=""/>
          <p:cNvCxnSpPr>
            <a:stCxn id="2502" idx="7"/>
            <a:endCxn id="2501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2" name=""/>
          <p:cNvCxnSpPr>
            <a:stCxn id="2501" idx="5"/>
            <a:endCxn id="2503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3" name=""/>
          <p:cNvCxnSpPr>
            <a:stCxn id="2502" idx="5"/>
            <a:endCxn id="2500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4" name=""/>
          <p:cNvCxnSpPr>
            <a:stCxn id="2499" idx="7"/>
            <a:endCxn id="2498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5" name=""/>
          <p:cNvCxnSpPr>
            <a:stCxn id="2499" idx="5"/>
            <a:endCxn id="2497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16" name=""/>
          <p:cNvCxnSpPr>
            <a:stCxn id="2503" idx="7"/>
            <a:endCxn id="2495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7" name=""/>
          <p:cNvCxnSpPr>
            <a:stCxn id="2496" idx="5"/>
            <a:endCxn id="2495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518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9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0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1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2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3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4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5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6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7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8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9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0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1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AFDF-E5BB-44DD-AD3E-BE83811400BF}" type="slidenum">
              <a:t>72</a:t>
            </a:fld>
          </a:p>
        </p:txBody>
      </p:sp>
    </p:spTree>
  </p:cSld>
  <p:transition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4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5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6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7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8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9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0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1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42" name=""/>
          <p:cNvCxnSpPr>
            <a:stCxn id="2536" idx="6"/>
            <a:endCxn id="2539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3" name=""/>
          <p:cNvCxnSpPr>
            <a:stCxn id="2539" idx="6"/>
            <a:endCxn id="2534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44" name=""/>
          <p:cNvCxnSpPr>
            <a:stCxn id="2535" idx="6"/>
            <a:endCxn id="2538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45" name=""/>
          <p:cNvCxnSpPr>
            <a:stCxn id="2538" idx="6"/>
            <a:endCxn id="2541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46" name=""/>
          <p:cNvCxnSpPr>
            <a:stCxn id="2536" idx="4"/>
            <a:endCxn id="2535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7" name=""/>
          <p:cNvCxnSpPr>
            <a:stCxn id="2534" idx="4"/>
            <a:endCxn id="2541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25560">
            <a:solidFill>
              <a:srgbClr val="000080"/>
            </a:solidFill>
            <a:miter/>
          </a:ln>
        </p:spPr>
      </p:cxnSp>
      <p:cxnSp>
        <p:nvCxnSpPr>
          <p:cNvPr id="2548" name=""/>
          <p:cNvCxnSpPr>
            <a:stCxn id="2535" idx="7"/>
            <a:endCxn id="2540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9" name=""/>
          <p:cNvCxnSpPr>
            <a:stCxn id="2540" idx="7"/>
            <a:endCxn id="2539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50" name=""/>
          <p:cNvCxnSpPr>
            <a:stCxn id="2539" idx="5"/>
            <a:endCxn id="2541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51" name=""/>
          <p:cNvCxnSpPr>
            <a:stCxn id="2540" idx="5"/>
            <a:endCxn id="2538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2" name=""/>
          <p:cNvCxnSpPr>
            <a:stCxn id="2537" idx="7"/>
            <a:endCxn id="2536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53" name=""/>
          <p:cNvCxnSpPr>
            <a:stCxn id="2537" idx="5"/>
            <a:endCxn id="2535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54" name=""/>
          <p:cNvCxnSpPr>
            <a:stCxn id="2541" idx="7"/>
            <a:endCxn id="2533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5" name=""/>
          <p:cNvCxnSpPr>
            <a:stCxn id="2534" idx="5"/>
            <a:endCxn id="2533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556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7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8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9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0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1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2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3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4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5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6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8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9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11B-098E-4274-8412-184892FFBA75}" type="slidenum">
              <a:t>73</a:t>
            </a:fld>
          </a:p>
        </p:txBody>
      </p:sp>
    </p:spTree>
  </p:cSld>
  <p:transition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Kruskal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80" name=""/>
          <p:cNvCxnSpPr>
            <a:stCxn id="2574" idx="6"/>
            <a:endCxn id="257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1" name=""/>
          <p:cNvCxnSpPr>
            <a:stCxn id="2577" idx="6"/>
            <a:endCxn id="257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82" name=""/>
          <p:cNvCxnSpPr>
            <a:stCxn id="2573" idx="6"/>
            <a:endCxn id="257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83" name=""/>
          <p:cNvCxnSpPr>
            <a:stCxn id="2576" idx="6"/>
            <a:endCxn id="257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84" name=""/>
          <p:cNvCxnSpPr>
            <a:stCxn id="2574" idx="4"/>
            <a:endCxn id="257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5" name=""/>
          <p:cNvCxnSpPr>
            <a:stCxn id="2572" idx="4"/>
            <a:endCxn id="257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6" name=""/>
          <p:cNvCxnSpPr>
            <a:stCxn id="2573" idx="7"/>
            <a:endCxn id="257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7" name=""/>
          <p:cNvCxnSpPr>
            <a:stCxn id="2578" idx="7"/>
            <a:endCxn id="257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88" name=""/>
          <p:cNvCxnSpPr>
            <a:stCxn id="2577" idx="5"/>
            <a:endCxn id="257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89" name=""/>
          <p:cNvCxnSpPr>
            <a:stCxn id="2578" idx="5"/>
            <a:endCxn id="257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0" name=""/>
          <p:cNvCxnSpPr>
            <a:stCxn id="2575" idx="7"/>
            <a:endCxn id="257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91" name=""/>
          <p:cNvCxnSpPr>
            <a:stCxn id="2575" idx="5"/>
            <a:endCxn id="257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92" name=""/>
          <p:cNvCxnSpPr>
            <a:stCxn id="2579" idx="7"/>
            <a:endCxn id="257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3" name=""/>
          <p:cNvCxnSpPr>
            <a:stCxn id="2572" idx="5"/>
            <a:endCxn id="257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59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371-4F15-4F7A-BE34-0B297AE6B509}" type="slidenum">
              <a:t>74</a:t>
            </a:fld>
          </a:p>
        </p:txBody>
      </p:sp>
    </p:spTree>
  </p:cSld>
  <p:transition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ov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gorit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1061640" y="1447920"/>
            <a:ext cx="5758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MST-Prim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graph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G, w),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vertex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V[G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u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[u]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[r]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[r]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ExtractMi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Q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Adj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u)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Q and w(u,v) &lt;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[v]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p[v]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[v]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w(u,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B0D-CF63-4779-92DE-BC8775A02F1D}" type="slidenum">
              <a:t>75</a:t>
            </a:fld>
          </a:p>
        </p:txBody>
      </p:sp>
    </p:spTree>
  </p:cSld>
  <p:transition>
    <p:dissolv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20" name=""/>
          <p:cNvCxnSpPr>
            <a:stCxn id="2614" idx="6"/>
            <a:endCxn id="261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1" name=""/>
          <p:cNvCxnSpPr>
            <a:stCxn id="2617" idx="6"/>
            <a:endCxn id="261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2" name=""/>
          <p:cNvCxnSpPr>
            <a:stCxn id="2613" idx="6"/>
            <a:endCxn id="261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3" name=""/>
          <p:cNvCxnSpPr>
            <a:stCxn id="2616" idx="6"/>
            <a:endCxn id="261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4" name=""/>
          <p:cNvCxnSpPr>
            <a:stCxn id="2614" idx="4"/>
            <a:endCxn id="261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5" name=""/>
          <p:cNvCxnSpPr>
            <a:stCxn id="2612" idx="4"/>
            <a:endCxn id="261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6" name=""/>
          <p:cNvCxnSpPr>
            <a:stCxn id="2613" idx="7"/>
            <a:endCxn id="261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7" name=""/>
          <p:cNvCxnSpPr>
            <a:stCxn id="2618" idx="7"/>
            <a:endCxn id="261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8" name=""/>
          <p:cNvCxnSpPr>
            <a:stCxn id="2617" idx="5"/>
            <a:endCxn id="261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9" name=""/>
          <p:cNvCxnSpPr>
            <a:stCxn id="2618" idx="5"/>
            <a:endCxn id="261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0" name=""/>
          <p:cNvCxnSpPr>
            <a:stCxn id="2615" idx="7"/>
            <a:endCxn id="261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1" name=""/>
          <p:cNvCxnSpPr>
            <a:stCxn id="2615" idx="5"/>
            <a:endCxn id="261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2" name=""/>
          <p:cNvCxnSpPr>
            <a:stCxn id="2619" idx="7"/>
            <a:endCxn id="261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3" name=""/>
          <p:cNvCxnSpPr>
            <a:stCxn id="2612" idx="5"/>
            <a:endCxn id="261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3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395D-93FE-4F08-92B4-39B6CA998CE8}" type="slidenum">
              <a:t>76</a:t>
            </a:fld>
          </a:p>
        </p:txBody>
      </p:sp>
    </p:spTree>
  </p:cSld>
  <p:transition>
    <p:dissolv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0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1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2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4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5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6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7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58" name=""/>
          <p:cNvCxnSpPr>
            <a:stCxn id="2652" idx="6"/>
            <a:endCxn id="2655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59" name=""/>
          <p:cNvCxnSpPr>
            <a:stCxn id="2655" idx="6"/>
            <a:endCxn id="2650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0" name=""/>
          <p:cNvCxnSpPr>
            <a:stCxn id="2651" idx="6"/>
            <a:endCxn id="2654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1" name=""/>
          <p:cNvCxnSpPr>
            <a:stCxn id="2654" idx="6"/>
            <a:endCxn id="2657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2" name=""/>
          <p:cNvCxnSpPr>
            <a:stCxn id="2652" idx="4"/>
            <a:endCxn id="2651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3" name=""/>
          <p:cNvCxnSpPr>
            <a:stCxn id="2650" idx="4"/>
            <a:endCxn id="2657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4" name=""/>
          <p:cNvCxnSpPr>
            <a:stCxn id="2651" idx="7"/>
            <a:endCxn id="2656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5" name=""/>
          <p:cNvCxnSpPr>
            <a:stCxn id="2656" idx="7"/>
            <a:endCxn id="2655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6" name=""/>
          <p:cNvCxnSpPr>
            <a:stCxn id="2655" idx="5"/>
            <a:endCxn id="2657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7" name=""/>
          <p:cNvCxnSpPr>
            <a:stCxn id="2656" idx="5"/>
            <a:endCxn id="2654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8" name=""/>
          <p:cNvCxnSpPr>
            <a:stCxn id="2653" idx="7"/>
            <a:endCxn id="2652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9" name=""/>
          <p:cNvCxnSpPr>
            <a:stCxn id="2653" idx="5"/>
            <a:endCxn id="2651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0" name=""/>
          <p:cNvCxnSpPr>
            <a:stCxn id="2657" idx="7"/>
            <a:endCxn id="2649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1" name=""/>
          <p:cNvCxnSpPr>
            <a:stCxn id="2650" idx="5"/>
            <a:endCxn id="2649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72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3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4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5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6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7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8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9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0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1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2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3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4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5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DF1F-E3E6-402E-9AA0-F0E5A0B7570D}" type="slidenum">
              <a:t>77</a:t>
            </a:fld>
          </a:p>
        </p:txBody>
      </p:sp>
    </p:spTree>
  </p:cSld>
  <p:transition>
    <p:dissolv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8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9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0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1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2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3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4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5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96" name=""/>
          <p:cNvCxnSpPr>
            <a:stCxn id="2690" idx="6"/>
            <a:endCxn id="2693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7" name=""/>
          <p:cNvCxnSpPr>
            <a:stCxn id="2693" idx="6"/>
            <a:endCxn id="2688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8" name=""/>
          <p:cNvCxnSpPr>
            <a:stCxn id="2689" idx="6"/>
            <a:endCxn id="2692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9" name=""/>
          <p:cNvCxnSpPr>
            <a:stCxn id="2692" idx="6"/>
            <a:endCxn id="2695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0" name=""/>
          <p:cNvCxnSpPr>
            <a:stCxn id="2690" idx="4"/>
            <a:endCxn id="2689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1" name=""/>
          <p:cNvCxnSpPr>
            <a:stCxn id="2688" idx="4"/>
            <a:endCxn id="2695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2" name=""/>
          <p:cNvCxnSpPr>
            <a:stCxn id="2689" idx="7"/>
            <a:endCxn id="2694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3" name=""/>
          <p:cNvCxnSpPr>
            <a:stCxn id="2694" idx="7"/>
            <a:endCxn id="2693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4" name=""/>
          <p:cNvCxnSpPr>
            <a:stCxn id="2693" idx="5"/>
            <a:endCxn id="2695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5" name=""/>
          <p:cNvCxnSpPr>
            <a:stCxn id="2694" idx="5"/>
            <a:endCxn id="2692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6" name=""/>
          <p:cNvCxnSpPr>
            <a:stCxn id="2691" idx="7"/>
            <a:endCxn id="2690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707" name=""/>
          <p:cNvCxnSpPr>
            <a:stCxn id="2691" idx="5"/>
            <a:endCxn id="2689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8" name=""/>
          <p:cNvCxnSpPr>
            <a:stCxn id="2695" idx="7"/>
            <a:endCxn id="2687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9" name=""/>
          <p:cNvCxnSpPr>
            <a:stCxn id="2688" idx="5"/>
            <a:endCxn id="2687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10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1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2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3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4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5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6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7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8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9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0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1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2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3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F2F1-6C93-44CB-ACAD-37702E3556F0}" type="slidenum">
              <a:t>78</a:t>
            </a:fld>
          </a:p>
        </p:txBody>
      </p:sp>
    </p:spTree>
  </p:cSld>
  <p:transition>
    <p:dissolv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6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7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8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9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0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1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2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3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734" name=""/>
          <p:cNvCxnSpPr>
            <a:stCxn id="2728" idx="6"/>
            <a:endCxn id="2731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735" name=""/>
          <p:cNvCxnSpPr>
            <a:stCxn id="2731" idx="6"/>
            <a:endCxn id="2726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6" name=""/>
          <p:cNvCxnSpPr>
            <a:stCxn id="2727" idx="6"/>
            <a:endCxn id="2730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7" name=""/>
          <p:cNvCxnSpPr>
            <a:stCxn id="2730" idx="6"/>
            <a:endCxn id="2733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8" name=""/>
          <p:cNvCxnSpPr>
            <a:stCxn id="2728" idx="4"/>
            <a:endCxn id="2727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9" name=""/>
          <p:cNvCxnSpPr>
            <a:stCxn id="2726" idx="4"/>
            <a:endCxn id="2733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0" name=""/>
          <p:cNvCxnSpPr>
            <a:stCxn id="2727" idx="7"/>
            <a:endCxn id="2732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1" name=""/>
          <p:cNvCxnSpPr>
            <a:stCxn id="2732" idx="7"/>
            <a:endCxn id="2731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2" name=""/>
          <p:cNvCxnSpPr>
            <a:stCxn id="2731" idx="5"/>
            <a:endCxn id="2733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3" name=""/>
          <p:cNvCxnSpPr>
            <a:stCxn id="2732" idx="5"/>
            <a:endCxn id="2730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4" name=""/>
          <p:cNvCxnSpPr>
            <a:stCxn id="2729" idx="7"/>
            <a:endCxn id="2728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745" name=""/>
          <p:cNvCxnSpPr>
            <a:stCxn id="2729" idx="5"/>
            <a:endCxn id="2727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6" name=""/>
          <p:cNvCxnSpPr>
            <a:stCxn id="2733" idx="7"/>
            <a:endCxn id="2725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7" name=""/>
          <p:cNvCxnSpPr>
            <a:stCxn id="2726" idx="5"/>
            <a:endCxn id="2725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48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9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0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1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2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3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4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5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6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7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8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9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0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1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9879-9E2C-4B70-AA8A-EE9EEE26DBE7}" type="slidenum">
              <a:t>79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edstavljanje grafa 5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4657320" y="1599840"/>
            <a:ext cx="4257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332240" cy="416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553D-4641-4009-86D3-61477A429E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4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5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6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7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8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9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0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1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772" name=""/>
          <p:cNvCxnSpPr>
            <a:stCxn id="2766" idx="6"/>
            <a:endCxn id="2769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773" name=""/>
          <p:cNvCxnSpPr>
            <a:stCxn id="2769" idx="6"/>
            <a:endCxn id="2764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4" name=""/>
          <p:cNvCxnSpPr>
            <a:stCxn id="2765" idx="6"/>
            <a:endCxn id="2768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5" name=""/>
          <p:cNvCxnSpPr>
            <a:stCxn id="2768" idx="6"/>
            <a:endCxn id="2771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6" name=""/>
          <p:cNvCxnSpPr>
            <a:stCxn id="2766" idx="4"/>
            <a:endCxn id="2765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7" name=""/>
          <p:cNvCxnSpPr>
            <a:stCxn id="2764" idx="4"/>
            <a:endCxn id="2771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8" name=""/>
          <p:cNvCxnSpPr>
            <a:stCxn id="2765" idx="7"/>
            <a:endCxn id="2770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9" name=""/>
          <p:cNvCxnSpPr>
            <a:stCxn id="2770" idx="7"/>
            <a:endCxn id="2769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780" name=""/>
          <p:cNvCxnSpPr>
            <a:stCxn id="2769" idx="5"/>
            <a:endCxn id="2771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1" name=""/>
          <p:cNvCxnSpPr>
            <a:stCxn id="2770" idx="5"/>
            <a:endCxn id="2768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2" name=""/>
          <p:cNvCxnSpPr>
            <a:stCxn id="2767" idx="7"/>
            <a:endCxn id="2766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783" name=""/>
          <p:cNvCxnSpPr>
            <a:stCxn id="2767" idx="5"/>
            <a:endCxn id="2765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4" name=""/>
          <p:cNvCxnSpPr>
            <a:stCxn id="2771" idx="7"/>
            <a:endCxn id="2763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5" name=""/>
          <p:cNvCxnSpPr>
            <a:stCxn id="2764" idx="5"/>
            <a:endCxn id="2763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86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7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8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9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0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1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2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3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4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5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6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8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9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AF31-4D73-4446-8614-6C357A6C3AF0}" type="slidenum">
              <a:t>80</a:t>
            </a:fld>
          </a:p>
        </p:txBody>
      </p:sp>
    </p:spTree>
  </p:cSld>
  <p:transition>
    <p:dissolv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2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3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4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5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6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7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8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9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10" name=""/>
          <p:cNvCxnSpPr>
            <a:stCxn id="2804" idx="6"/>
            <a:endCxn id="2807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11" name=""/>
          <p:cNvCxnSpPr>
            <a:stCxn id="2807" idx="6"/>
            <a:endCxn id="2802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2" name=""/>
          <p:cNvCxnSpPr>
            <a:stCxn id="2803" idx="6"/>
            <a:endCxn id="2806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3" name=""/>
          <p:cNvCxnSpPr>
            <a:stCxn id="2806" idx="6"/>
            <a:endCxn id="2809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4" name=""/>
          <p:cNvCxnSpPr>
            <a:stCxn id="2804" idx="4"/>
            <a:endCxn id="2803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5" name=""/>
          <p:cNvCxnSpPr>
            <a:stCxn id="2802" idx="4"/>
            <a:endCxn id="2809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6" name=""/>
          <p:cNvCxnSpPr>
            <a:stCxn id="2803" idx="7"/>
            <a:endCxn id="2808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7" name=""/>
          <p:cNvCxnSpPr>
            <a:stCxn id="2808" idx="7"/>
            <a:endCxn id="2807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18" name=""/>
          <p:cNvCxnSpPr>
            <a:stCxn id="2807" idx="5"/>
            <a:endCxn id="2809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19" name=""/>
          <p:cNvCxnSpPr>
            <a:stCxn id="2808" idx="5"/>
            <a:endCxn id="2806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0" name=""/>
          <p:cNvCxnSpPr>
            <a:stCxn id="2805" idx="7"/>
            <a:endCxn id="2804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21" name=""/>
          <p:cNvCxnSpPr>
            <a:stCxn id="2805" idx="5"/>
            <a:endCxn id="2803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2" name=""/>
          <p:cNvCxnSpPr>
            <a:stCxn id="2809" idx="7"/>
            <a:endCxn id="2801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3" name=""/>
          <p:cNvCxnSpPr>
            <a:stCxn id="2802" idx="5"/>
            <a:endCxn id="2801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24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5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6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7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8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9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0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1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2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3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4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5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6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7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AEB8-3C2B-4434-882F-15DB4874F405}" type="slidenum">
              <a:t>81</a:t>
            </a:fld>
          </a:p>
        </p:txBody>
      </p:sp>
    </p:spTree>
  </p:cSld>
  <p:transition>
    <p:dissolv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0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1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2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3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4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5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6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7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48" name=""/>
          <p:cNvCxnSpPr>
            <a:stCxn id="2842" idx="6"/>
            <a:endCxn id="2845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49" name=""/>
          <p:cNvCxnSpPr>
            <a:stCxn id="2845" idx="6"/>
            <a:endCxn id="2840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0" name=""/>
          <p:cNvCxnSpPr>
            <a:stCxn id="2841" idx="6"/>
            <a:endCxn id="2844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1" name=""/>
          <p:cNvCxnSpPr>
            <a:stCxn id="2844" idx="6"/>
            <a:endCxn id="2847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52" name=""/>
          <p:cNvCxnSpPr>
            <a:stCxn id="2842" idx="4"/>
            <a:endCxn id="2841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3" name=""/>
          <p:cNvCxnSpPr>
            <a:stCxn id="2840" idx="4"/>
            <a:endCxn id="2847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4" name=""/>
          <p:cNvCxnSpPr>
            <a:stCxn id="2841" idx="7"/>
            <a:endCxn id="2846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5" name=""/>
          <p:cNvCxnSpPr>
            <a:stCxn id="2846" idx="7"/>
            <a:endCxn id="2845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56" name=""/>
          <p:cNvCxnSpPr>
            <a:stCxn id="2845" idx="5"/>
            <a:endCxn id="2847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57" name=""/>
          <p:cNvCxnSpPr>
            <a:stCxn id="2846" idx="5"/>
            <a:endCxn id="2844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8" name=""/>
          <p:cNvCxnSpPr>
            <a:stCxn id="2843" idx="7"/>
            <a:endCxn id="2842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59" name=""/>
          <p:cNvCxnSpPr>
            <a:stCxn id="2843" idx="5"/>
            <a:endCxn id="2841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60" name=""/>
          <p:cNvCxnSpPr>
            <a:stCxn id="2847" idx="7"/>
            <a:endCxn id="2839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61" name=""/>
          <p:cNvCxnSpPr>
            <a:stCxn id="2840" idx="5"/>
            <a:endCxn id="2839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62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3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4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5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6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7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8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9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0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1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2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4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5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C456-6630-4198-BE57-82563D707487}" type="slidenum">
              <a:t>82</a:t>
            </a:fld>
          </a:p>
        </p:txBody>
      </p:sp>
    </p:spTree>
  </p:cSld>
  <p:transition>
    <p:dissolv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8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9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0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1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2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3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4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5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86" name=""/>
          <p:cNvCxnSpPr>
            <a:stCxn id="2880" idx="6"/>
            <a:endCxn id="2883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87" name=""/>
          <p:cNvCxnSpPr>
            <a:stCxn id="2883" idx="6"/>
            <a:endCxn id="2878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8" name=""/>
          <p:cNvCxnSpPr>
            <a:stCxn id="2879" idx="6"/>
            <a:endCxn id="2882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89" name=""/>
          <p:cNvCxnSpPr>
            <a:stCxn id="2882" idx="6"/>
            <a:endCxn id="2885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90" name=""/>
          <p:cNvCxnSpPr>
            <a:stCxn id="2880" idx="4"/>
            <a:endCxn id="2879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1" name=""/>
          <p:cNvCxnSpPr>
            <a:stCxn id="2878" idx="4"/>
            <a:endCxn id="2885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2" name=""/>
          <p:cNvCxnSpPr>
            <a:stCxn id="2879" idx="7"/>
            <a:endCxn id="2884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3" name=""/>
          <p:cNvCxnSpPr>
            <a:stCxn id="2884" idx="7"/>
            <a:endCxn id="2883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94" name=""/>
          <p:cNvCxnSpPr>
            <a:stCxn id="2883" idx="5"/>
            <a:endCxn id="2885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95" name=""/>
          <p:cNvCxnSpPr>
            <a:stCxn id="2884" idx="5"/>
            <a:endCxn id="2882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6" name=""/>
          <p:cNvCxnSpPr>
            <a:stCxn id="2881" idx="7"/>
            <a:endCxn id="2880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897" name=""/>
          <p:cNvCxnSpPr>
            <a:stCxn id="2881" idx="5"/>
            <a:endCxn id="2879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8" name=""/>
          <p:cNvCxnSpPr>
            <a:stCxn id="2885" idx="7"/>
            <a:endCxn id="2877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9" name=""/>
          <p:cNvCxnSpPr>
            <a:stCxn id="2878" idx="5"/>
            <a:endCxn id="2877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00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1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2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3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4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5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6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7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8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9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0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1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2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3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868-0C83-4EA6-99F4-30D2324A6F43}" type="slidenum">
              <a:t>83</a:t>
            </a:fld>
          </a:p>
        </p:txBody>
      </p:sp>
    </p:spTree>
  </p:cSld>
  <p:transition>
    <p:dissolv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6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7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8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9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0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1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2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3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24" name=""/>
          <p:cNvCxnSpPr>
            <a:stCxn id="2918" idx="6"/>
            <a:endCxn id="2921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25" name=""/>
          <p:cNvCxnSpPr>
            <a:stCxn id="2921" idx="6"/>
            <a:endCxn id="2916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26" name=""/>
          <p:cNvCxnSpPr>
            <a:stCxn id="2917" idx="6"/>
            <a:endCxn id="2920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27" name=""/>
          <p:cNvCxnSpPr>
            <a:stCxn id="2920" idx="6"/>
            <a:endCxn id="2923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28" name=""/>
          <p:cNvCxnSpPr>
            <a:stCxn id="2918" idx="4"/>
            <a:endCxn id="2917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29" name=""/>
          <p:cNvCxnSpPr>
            <a:stCxn id="2916" idx="4"/>
            <a:endCxn id="2923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0" name=""/>
          <p:cNvCxnSpPr>
            <a:stCxn id="2917" idx="7"/>
            <a:endCxn id="2922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1" name=""/>
          <p:cNvCxnSpPr>
            <a:stCxn id="2922" idx="7"/>
            <a:endCxn id="2921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32" name=""/>
          <p:cNvCxnSpPr>
            <a:stCxn id="2921" idx="5"/>
            <a:endCxn id="2923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33" name=""/>
          <p:cNvCxnSpPr>
            <a:stCxn id="2922" idx="5"/>
            <a:endCxn id="2920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4" name=""/>
          <p:cNvCxnSpPr>
            <a:stCxn id="2919" idx="7"/>
            <a:endCxn id="2918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35" name=""/>
          <p:cNvCxnSpPr>
            <a:stCxn id="2919" idx="5"/>
            <a:endCxn id="2917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6" name=""/>
          <p:cNvCxnSpPr>
            <a:stCxn id="2923" idx="7"/>
            <a:endCxn id="2915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7" name=""/>
          <p:cNvCxnSpPr>
            <a:stCxn id="2916" idx="5"/>
            <a:endCxn id="2915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38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9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0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1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2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3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4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5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6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7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8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9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0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1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8FC6-921A-4196-A3A0-F60ACB55F4D6}" type="slidenum">
              <a:t>84</a:t>
            </a:fld>
          </a:p>
        </p:txBody>
      </p:sp>
    </p:spTree>
  </p:cSld>
  <p:transition>
    <p:dissolv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MST - Prim</a:t>
            </a:r>
            <a:r>
              <a:rPr b="0" lang="sr-Latn-CS" sz="4000" spc="-1" strike="noStrike">
                <a:solidFill>
                  <a:srgbClr val="3333cc"/>
                </a:solidFill>
                <a:latin typeface="Arial"/>
              </a:rPr>
              <a:t> - primj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8077320" y="342900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4" name=""/>
          <p:cNvSpPr/>
          <p:nvPr/>
        </p:nvSpPr>
        <p:spPr>
          <a:xfrm>
            <a:off x="6934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5" name=""/>
          <p:cNvSpPr/>
          <p:nvPr/>
        </p:nvSpPr>
        <p:spPr>
          <a:xfrm>
            <a:off x="2362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6" name=""/>
          <p:cNvSpPr/>
          <p:nvPr/>
        </p:nvSpPr>
        <p:spPr>
          <a:xfrm>
            <a:off x="2362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7" name="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8" name=""/>
          <p:cNvSpPr/>
          <p:nvPr/>
        </p:nvSpPr>
        <p:spPr>
          <a:xfrm>
            <a:off x="4648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9" name=""/>
          <p:cNvSpPr/>
          <p:nvPr/>
        </p:nvSpPr>
        <p:spPr>
          <a:xfrm>
            <a:off x="4648320" y="25909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0" name=""/>
          <p:cNvSpPr/>
          <p:nvPr/>
        </p:nvSpPr>
        <p:spPr>
          <a:xfrm>
            <a:off x="3581280" y="35053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1" name=""/>
          <p:cNvSpPr/>
          <p:nvPr/>
        </p:nvSpPr>
        <p:spPr>
          <a:xfrm>
            <a:off x="6934320" y="441972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62" name=""/>
          <p:cNvCxnSpPr>
            <a:stCxn id="2956" idx="6"/>
            <a:endCxn id="2959" idx="2"/>
          </p:cNvCxnSpPr>
          <p:nvPr/>
        </p:nvCxnSpPr>
        <p:spPr>
          <a:xfrm>
            <a:off x="2819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63" name=""/>
          <p:cNvCxnSpPr>
            <a:stCxn id="2959" idx="6"/>
            <a:endCxn id="2954" idx="2"/>
          </p:cNvCxnSpPr>
          <p:nvPr/>
        </p:nvCxnSpPr>
        <p:spPr>
          <a:xfrm>
            <a:off x="5105520" y="28191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64" name=""/>
          <p:cNvCxnSpPr>
            <a:stCxn id="2955" idx="6"/>
            <a:endCxn id="2958" idx="2"/>
          </p:cNvCxnSpPr>
          <p:nvPr/>
        </p:nvCxnSpPr>
        <p:spPr>
          <a:xfrm>
            <a:off x="2819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65" name=""/>
          <p:cNvCxnSpPr>
            <a:stCxn id="2958" idx="6"/>
            <a:endCxn id="2961" idx="2"/>
          </p:cNvCxnSpPr>
          <p:nvPr/>
        </p:nvCxnSpPr>
        <p:spPr>
          <a:xfrm>
            <a:off x="5105520" y="464796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66" name=""/>
          <p:cNvCxnSpPr>
            <a:stCxn id="2956" idx="4"/>
            <a:endCxn id="2955" idx="0"/>
          </p:cNvCxnSpPr>
          <p:nvPr/>
        </p:nvCxnSpPr>
        <p:spPr>
          <a:xfrm>
            <a:off x="2590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67" name=""/>
          <p:cNvCxnSpPr>
            <a:stCxn id="2954" idx="4"/>
            <a:endCxn id="2961" idx="0"/>
          </p:cNvCxnSpPr>
          <p:nvPr/>
        </p:nvCxnSpPr>
        <p:spPr>
          <a:xfrm>
            <a:off x="7162560" y="304812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68" name=""/>
          <p:cNvCxnSpPr>
            <a:stCxn id="2955" idx="7"/>
            <a:endCxn id="2960" idx="3"/>
          </p:cNvCxnSpPr>
          <p:nvPr/>
        </p:nvCxnSpPr>
        <p:spPr>
          <a:xfrm flipV="1">
            <a:off x="2752560" y="3895200"/>
            <a:ext cx="89640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69" name=""/>
          <p:cNvCxnSpPr>
            <a:stCxn id="2960" idx="7"/>
            <a:endCxn id="2959" idx="3"/>
          </p:cNvCxnSpPr>
          <p:nvPr/>
        </p:nvCxnSpPr>
        <p:spPr>
          <a:xfrm flipV="1">
            <a:off x="3971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70" name=""/>
          <p:cNvCxnSpPr>
            <a:stCxn id="2959" idx="5"/>
            <a:endCxn id="2961" idx="1"/>
          </p:cNvCxnSpPr>
          <p:nvPr/>
        </p:nvCxnSpPr>
        <p:spPr>
          <a:xfrm>
            <a:off x="5038200" y="2980800"/>
            <a:ext cx="196308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71" name=""/>
          <p:cNvCxnSpPr>
            <a:stCxn id="2960" idx="5"/>
            <a:endCxn id="2958" idx="1"/>
          </p:cNvCxnSpPr>
          <p:nvPr/>
        </p:nvCxnSpPr>
        <p:spPr>
          <a:xfrm>
            <a:off x="3971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72" name=""/>
          <p:cNvCxnSpPr>
            <a:stCxn id="2957" idx="7"/>
            <a:endCxn id="2956" idx="3"/>
          </p:cNvCxnSpPr>
          <p:nvPr/>
        </p:nvCxnSpPr>
        <p:spPr>
          <a:xfrm flipV="1">
            <a:off x="1685880" y="2980800"/>
            <a:ext cx="7437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73" name=""/>
          <p:cNvCxnSpPr>
            <a:stCxn id="2957" idx="5"/>
            <a:endCxn id="2955" idx="1"/>
          </p:cNvCxnSpPr>
          <p:nvPr/>
        </p:nvCxnSpPr>
        <p:spPr>
          <a:xfrm>
            <a:off x="1685880" y="3895200"/>
            <a:ext cx="7437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74" name=""/>
          <p:cNvCxnSpPr>
            <a:stCxn id="2961" idx="7"/>
            <a:endCxn id="2953" idx="3"/>
          </p:cNvCxnSpPr>
          <p:nvPr/>
        </p:nvCxnSpPr>
        <p:spPr>
          <a:xfrm flipV="1">
            <a:off x="7324560" y="3819240"/>
            <a:ext cx="82008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75" name=""/>
          <p:cNvCxnSpPr>
            <a:stCxn id="2954" idx="5"/>
            <a:endCxn id="2953" idx="1"/>
          </p:cNvCxnSpPr>
          <p:nvPr/>
        </p:nvCxnSpPr>
        <p:spPr>
          <a:xfrm>
            <a:off x="7324560" y="2980800"/>
            <a:ext cx="820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976" name=""/>
          <p:cNvSpPr/>
          <p:nvPr/>
        </p:nvSpPr>
        <p:spPr>
          <a:xfrm>
            <a:off x="34909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7" name=""/>
          <p:cNvSpPr/>
          <p:nvPr/>
        </p:nvSpPr>
        <p:spPr>
          <a:xfrm>
            <a:off x="58532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8" name=""/>
          <p:cNvSpPr/>
          <p:nvPr/>
        </p:nvSpPr>
        <p:spPr>
          <a:xfrm>
            <a:off x="3490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9" name=""/>
          <p:cNvSpPr/>
          <p:nvPr/>
        </p:nvSpPr>
        <p:spPr>
          <a:xfrm>
            <a:off x="57769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0" name=""/>
          <p:cNvSpPr/>
          <p:nvPr/>
        </p:nvSpPr>
        <p:spPr>
          <a:xfrm>
            <a:off x="7682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1" name=""/>
          <p:cNvSpPr/>
          <p:nvPr/>
        </p:nvSpPr>
        <p:spPr>
          <a:xfrm>
            <a:off x="7834320" y="392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2" name=""/>
          <p:cNvSpPr/>
          <p:nvPr/>
        </p:nvSpPr>
        <p:spPr>
          <a:xfrm>
            <a:off x="7224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3" name=""/>
          <p:cNvSpPr/>
          <p:nvPr/>
        </p:nvSpPr>
        <p:spPr>
          <a:xfrm>
            <a:off x="1738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4" name=""/>
          <p:cNvSpPr/>
          <p:nvPr/>
        </p:nvSpPr>
        <p:spPr>
          <a:xfrm>
            <a:off x="166212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5" name=""/>
          <p:cNvSpPr/>
          <p:nvPr/>
        </p:nvSpPr>
        <p:spPr>
          <a:xfrm>
            <a:off x="21952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6" name=""/>
          <p:cNvSpPr/>
          <p:nvPr/>
        </p:nvSpPr>
        <p:spPr>
          <a:xfrm>
            <a:off x="2957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8" name=""/>
          <p:cNvSpPr/>
          <p:nvPr/>
        </p:nvSpPr>
        <p:spPr>
          <a:xfrm>
            <a:off x="43293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9" name=""/>
          <p:cNvSpPr/>
          <p:nvPr/>
        </p:nvSpPr>
        <p:spPr>
          <a:xfrm>
            <a:off x="615816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DE0-F345-40DC-B5C6-D949E2DAA3FA}" type="slidenum">
              <a:t>85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readth first traversal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6C20-A38D-4C27-A809-3853D1EDA9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3:14:38Z</dcterms:created>
  <dc:creator>柯皓仁</dc:creator>
  <dc:description/>
  <dc:language>en-US</dc:language>
  <cp:lastModifiedBy>administrator</cp:lastModifiedBy>
  <cp:lastPrinted>2001-03-06T22:50:36Z</cp:lastPrinted>
  <dcterms:modified xsi:type="dcterms:W3CDTF">2004-05-05T11:58:08Z</dcterms:modified>
  <cp:revision>78</cp:revision>
  <dc:subject/>
  <dc:title>Chapter 22 Elementary Graph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and time">
    <vt:lpwstr>sadf</vt:lpwstr>
  </property>
</Properties>
</file>